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52E823-7918-46DC-A644-F595B1CE6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35D8FC-D44A-4192-9F7F-2811A8EE043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75FF77-FAAE-474E-B9AF-4141735CE00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84CF-4203-4A9D-8052-11F64288E8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83B3-F1AE-4E94-AF5C-E48087B4F0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5043-A19E-455D-BB4D-165D8ED99A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500F-680F-4CC0-A7AB-0F68530C06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5F60-E7EF-4FAE-8C3E-B783E94021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C0D0-D5FF-406A-91E1-420AF6C2B6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F8DC-1A2C-46BA-86D7-A4D4DCF23B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E400-C616-4368-A286-EC316E34B7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2074-DE40-4B52-AD1B-CBD2C77223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2604-7640-4612-ADA6-3A9BE9D8A4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EFD8-7D6D-4E23-B51B-35B9AEB67F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1A6C-E6EA-4FAB-BB8B-5E603BE93D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5699A-8CA7-42F6-B154-65756D0C7F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307B-64BA-4324-B4C0-94F8317206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88956-AC77-4DD8-BB56-50730648BB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F005E-A4D0-4D5B-9376-A733AEC05B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4FDFF-37D6-46DA-AEBE-A67D7E3815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2AC47-8998-4B7F-872F-2D4A6F9ABE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4653-5C5E-461D-BACE-2386DD3FB2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85DA-4175-4E5B-9C8D-83C6A8F173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552A-C8E6-4A9F-8BC1-4BAB028F44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927FE-DB63-4244-9701-CB24DB3F37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6F75-6535-45A1-9C70-E8B28B438A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D42C-6A35-4047-9B94-082DBB8CAF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owerpoint Title bg.emf"/>
          <p:cNvPicPr/>
          <p:nvPr/>
        </p:nvPicPr>
        <p:blipFill>
          <a:blip r:embed="rId2"/>
          <a:stretch/>
        </p:blipFill>
        <p:spPr>
          <a:xfrm>
            <a:off x="-588600" y="128880"/>
            <a:ext cx="10350000" cy="712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SmartNet-logo-horizontal.eps"/>
          <p:cNvPicPr/>
          <p:nvPr/>
        </p:nvPicPr>
        <p:blipFill>
          <a:blip r:embed="rId3"/>
          <a:stretch/>
        </p:blipFill>
        <p:spPr>
          <a:xfrm>
            <a:off x="4065480" y="13680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2" name="Text Placeholder 2"/>
          <p:cNvSpPr/>
          <p:nvPr/>
        </p:nvSpPr>
        <p:spPr>
          <a:xfrm>
            <a:off x="1483200" y="5799600"/>
            <a:ext cx="72435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Calibri"/>
              </a:rPr>
              <a:t>This project has received funding from the European Union’s Horizon 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Calibri"/>
              </a:rPr>
              <a:t>research and innovation programme under grant agreement No 6914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1" descr="flag_yellow_eps.ps"/>
          <p:cNvPicPr/>
          <p:nvPr/>
        </p:nvPicPr>
        <p:blipFill>
          <a:blip r:embed="rId4"/>
          <a:stretch/>
        </p:blipFill>
        <p:spPr>
          <a:xfrm>
            <a:off x="457200" y="5860800"/>
            <a:ext cx="944640" cy="641160"/>
          </a:xfrm>
          <a:prstGeom prst="rect">
            <a:avLst/>
          </a:prstGeom>
          <a:ln w="0">
            <a:noFill/>
          </a:ln>
        </p:spPr>
      </p:pic>
      <p:sp>
        <p:nvSpPr>
          <p:cNvPr id="4" name="TextBox 12"/>
          <p:cNvSpPr/>
          <p:nvPr/>
        </p:nvSpPr>
        <p:spPr>
          <a:xfrm>
            <a:off x="4582080" y="1310760"/>
            <a:ext cx="4012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Smart TSO-DSO interaction schemes, market architectures and ICT Solutions for the integration of ancillary services from demand side management and distributed 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454560"/>
            <a:ext cx="62164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x-none" sz="2400" spc="-1" strike="noStrike">
                <a:solidFill>
                  <a:srgbClr val="4f81bd"/>
                </a:solidFill>
                <a:latin typeface="Calibri Light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68360" y="4836240"/>
            <a:ext cx="6216480" cy="8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x-none" sz="1800" spc="-1" strike="noStrike">
                <a:solidFill>
                  <a:srgbClr val="1f497d"/>
                </a:solidFill>
                <a:latin typeface="Calibri"/>
              </a:rPr>
              <a:t>Click to edit Master text styl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68360" y="2976840"/>
            <a:ext cx="419544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x-none" sz="1800" spc="-1" strike="noStrike">
                <a:solidFill>
                  <a:srgbClr val="1f497d"/>
                </a:solidFill>
                <a:latin typeface="Calibri"/>
              </a:rPr>
              <a:t>Click to edit Master text styl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68360" y="415800"/>
            <a:ext cx="131940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Drag picture to placeholder or click icon to add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6635520" y="158040"/>
            <a:ext cx="2337480" cy="603360"/>
          </a:xfrm>
          <a:prstGeom prst="rect">
            <a:avLst/>
          </a:prstGeom>
          <a:ln w="0">
            <a:noFill/>
          </a:ln>
        </p:spPr>
      </p:pic>
      <p:sp>
        <p:nvSpPr>
          <p:cNvPr id="46" name="Oval 3"/>
          <p:cNvSpPr/>
          <p:nvPr/>
        </p:nvSpPr>
        <p:spPr>
          <a:xfrm>
            <a:off x="8354880" y="6390720"/>
            <a:ext cx="340560" cy="34056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64832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1"/>
          </p:nvPr>
        </p:nvSpPr>
        <p:spPr>
          <a:xfrm>
            <a:off x="8304120" y="6372000"/>
            <a:ext cx="45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69F35A9-272A-42B2-9D27-30645167A67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6635520" y="158040"/>
            <a:ext cx="2337480" cy="603360"/>
          </a:xfrm>
          <a:prstGeom prst="rect">
            <a:avLst/>
          </a:prstGeom>
          <a:ln w="0">
            <a:noFill/>
          </a:ln>
        </p:spPr>
      </p:pic>
      <p:sp>
        <p:nvSpPr>
          <p:cNvPr id="88" name="Oval 3"/>
          <p:cNvSpPr/>
          <p:nvPr/>
        </p:nvSpPr>
        <p:spPr>
          <a:xfrm>
            <a:off x="8354880" y="6390720"/>
            <a:ext cx="340560" cy="34056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32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Third level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2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2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8293680" y="6372000"/>
            <a:ext cx="45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D7E3F07-7BC7-45BA-BC81-395E3B32C76E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2145240" y="49464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1371600" y="5140440"/>
            <a:ext cx="64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3d72c4"/>
                </a:solidFill>
                <a:uFillTx/>
                <a:latin typeface="Calibri"/>
              </a:rPr>
              <a:t>SmartNet-Project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SmartNet partner logos.png"/>
          <p:cNvPicPr/>
          <p:nvPr/>
        </p:nvPicPr>
        <p:blipFill>
          <a:blip r:embed="rId3"/>
          <a:stretch/>
        </p:blipFill>
        <p:spPr>
          <a:xfrm>
            <a:off x="1143360" y="1228320"/>
            <a:ext cx="6869520" cy="48625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9"/>
          <p:cNvSpPr/>
          <p:nvPr/>
        </p:nvSpPr>
        <p:spPr>
          <a:xfrm>
            <a:off x="1808640" y="5598000"/>
            <a:ext cx="5557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This presentation reflects only the author’s view and the Innovation and Networks Executive Agency (INEA) is not responsible for any use that may be made of the information i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2145240" y="49464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1950840" y="1981080"/>
            <a:ext cx="5303160" cy="516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3"/>
          <p:cNvSpPr/>
          <p:nvPr/>
        </p:nvSpPr>
        <p:spPr>
          <a:xfrm>
            <a:off x="1859400" y="2865240"/>
            <a:ext cx="5394600" cy="3017160"/>
          </a:xfrm>
          <a:prstGeom prst="roundRect">
            <a:avLst>
              <a:gd name="adj" fmla="val 5814"/>
            </a:avLst>
          </a:prstGeom>
          <a:solidFill>
            <a:schemeClr val="lt1"/>
          </a:solidFill>
          <a:ln>
            <a:solidFill>
              <a:srgbClr val="6076b4"/>
            </a:solidFill>
            <a:round/>
          </a:ln>
          <a:effectLst>
            <a:outerShdw algn="tl" blurRad="69840" dir="2700000" dist="37674" rotWithShape="0">
              <a:schemeClr val="accent3">
                <a:lumMod val="50000"/>
                <a:alpha val="14000"/>
              </a:schemeClr>
            </a:outerShdw>
          </a:effectLst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3454560"/>
            <a:ext cx="62164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400" spc="-1" strike="noStrike">
                <a:solidFill>
                  <a:schemeClr val="accent1"/>
                </a:solidFill>
                <a:latin typeface="Calibri Light"/>
              </a:rPr>
              <a:t>Regulatory, planning and operation implications of TSO-DSO coordination for ancillary services from distribution gr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4836240"/>
            <a:ext cx="6216480" cy="8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Dr Ivana Kockar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Calibri"/>
              </a:rPr>
              <a:t>University of Strathcly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60" y="2976840"/>
            <a:ext cx="460764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PowerTech 2017, Manchester| 19 June 2017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52080" indent="-352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Set of recommendations for regulatory arrangements to enable DSO/TSO integration 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62840" indent="-2934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Which new operational arrangements should be introduced to ensure secure DSO/TSO integr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62840" indent="-2934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How to improve or change market designs to enable provision of services that can help DSO/ TSO integr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62840" indent="-2934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Other policy recommendation to enable and entice all market participants as well as demand side response to enable DSO/TSO integr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62840" indent="-2934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How to replicate SmartNet concept on a large scale and which policies are need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9AFF7-B7A9-48C7-BE87-6135E99971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072520" y="3231360"/>
            <a:ext cx="4998240" cy="22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 Ivana Kock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1e3963"/>
                </a:solidFill>
                <a:latin typeface="Calibri"/>
              </a:rPr>
              <a:t>Contact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ffiliation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hone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+44 (0)141 541 31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ail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vana.Kockar@strath.ac.u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Where does this policy work fit within the SmartNet project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What will influence the work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Timelin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General overview and background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Some particular details that we plan to address: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Lessons lea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How does it fit with the existing EU regul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Policy recommenda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B6AF7-DE59-4FA4-956D-62ECA28983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6"/>
          <p:cNvGrpSpPr/>
          <p:nvPr/>
        </p:nvGrpSpPr>
        <p:grpSpPr>
          <a:xfrm>
            <a:off x="567000" y="256680"/>
            <a:ext cx="7947000" cy="4209120"/>
            <a:chOff x="567000" y="256680"/>
            <a:chExt cx="7947000" cy="4209120"/>
          </a:xfrm>
        </p:grpSpPr>
        <p:sp>
          <p:nvSpPr>
            <p:cNvPr id="224" name="Rounded Rectangle 5"/>
            <p:cNvSpPr/>
            <p:nvPr/>
          </p:nvSpPr>
          <p:spPr>
            <a:xfrm>
              <a:off x="567000" y="593640"/>
              <a:ext cx="1254240" cy="65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ounded Rectangle 6"/>
            <p:cNvSpPr/>
            <p:nvPr/>
          </p:nvSpPr>
          <p:spPr>
            <a:xfrm>
              <a:off x="567000" y="2428560"/>
              <a:ext cx="1254240" cy="65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ounded Rectangle 7"/>
            <p:cNvSpPr/>
            <p:nvPr/>
          </p:nvSpPr>
          <p:spPr>
            <a:xfrm>
              <a:off x="567000" y="1511280"/>
              <a:ext cx="1254240" cy="65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ounded Rectangle 8"/>
            <p:cNvSpPr/>
            <p:nvPr/>
          </p:nvSpPr>
          <p:spPr>
            <a:xfrm>
              <a:off x="2944440" y="410760"/>
              <a:ext cx="1254240" cy="281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ounded Rectangle 9"/>
            <p:cNvSpPr/>
            <p:nvPr/>
          </p:nvSpPr>
          <p:spPr>
            <a:xfrm>
              <a:off x="5212440" y="1265760"/>
              <a:ext cx="1201680" cy="2325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ounded Rectangle 10"/>
            <p:cNvSpPr/>
            <p:nvPr/>
          </p:nvSpPr>
          <p:spPr>
            <a:xfrm>
              <a:off x="7307280" y="2251800"/>
              <a:ext cx="1206720" cy="144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ight Arrow 11"/>
            <p:cNvSpPr/>
            <p:nvPr/>
          </p:nvSpPr>
          <p:spPr>
            <a:xfrm>
              <a:off x="1821240" y="840600"/>
              <a:ext cx="11224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1" name="Right Arrow 14"/>
            <p:cNvSpPr/>
            <p:nvPr/>
          </p:nvSpPr>
          <p:spPr>
            <a:xfrm>
              <a:off x="4172760" y="2008080"/>
              <a:ext cx="1039320" cy="156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Right Arrow 15"/>
            <p:cNvSpPr/>
            <p:nvPr/>
          </p:nvSpPr>
          <p:spPr>
            <a:xfrm>
              <a:off x="6414840" y="2811240"/>
              <a:ext cx="8920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Right Arrow 16"/>
            <p:cNvSpPr/>
            <p:nvPr/>
          </p:nvSpPr>
          <p:spPr>
            <a:xfrm rot="5400000">
              <a:off x="7639560" y="3897360"/>
              <a:ext cx="5428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Right Arrow 17"/>
            <p:cNvSpPr/>
            <p:nvPr/>
          </p:nvSpPr>
          <p:spPr>
            <a:xfrm>
              <a:off x="1808280" y="1765800"/>
              <a:ext cx="11224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Right Arrow 18"/>
            <p:cNvSpPr/>
            <p:nvPr/>
          </p:nvSpPr>
          <p:spPr>
            <a:xfrm>
              <a:off x="1821240" y="2675520"/>
              <a:ext cx="11224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TextBox 19"/>
            <p:cNvSpPr/>
            <p:nvPr/>
          </p:nvSpPr>
          <p:spPr>
            <a:xfrm>
              <a:off x="1719360" y="1234800"/>
              <a:ext cx="1313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arket mo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c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21"/>
            <p:cNvSpPr/>
            <p:nvPr/>
          </p:nvSpPr>
          <p:spPr>
            <a:xfrm>
              <a:off x="1829160" y="256680"/>
              <a:ext cx="11502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/D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c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22"/>
            <p:cNvSpPr/>
            <p:nvPr/>
          </p:nvSpPr>
          <p:spPr>
            <a:xfrm>
              <a:off x="1965960" y="2164680"/>
              <a:ext cx="7236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c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3"/>
            <p:cNvSpPr/>
            <p:nvPr/>
          </p:nvSpPr>
          <p:spPr>
            <a:xfrm>
              <a:off x="4228920" y="1175400"/>
              <a:ext cx="9658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ationa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ses in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a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24"/>
            <p:cNvSpPr/>
            <p:nvPr/>
          </p:nvSpPr>
          <p:spPr>
            <a:xfrm>
              <a:off x="6549120" y="2208240"/>
              <a:ext cx="623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lo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25"/>
            <p:cNvSpPr/>
            <p:nvPr/>
          </p:nvSpPr>
          <p:spPr>
            <a:xfrm>
              <a:off x="6584040" y="3827520"/>
              <a:ext cx="1182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gulatory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uide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28" descr=""/>
          <p:cNvPicPr/>
          <p:nvPr/>
        </p:nvPicPr>
        <p:blipFill>
          <a:blip r:embed="rId1"/>
          <a:srcRect l="0" t="6765" r="0" b="0"/>
          <a:stretch/>
        </p:blipFill>
        <p:spPr>
          <a:xfrm>
            <a:off x="935640" y="4824360"/>
            <a:ext cx="6616800" cy="178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2CCE-400B-487D-A705-D2DE8ECB01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EU Energy Policy: </a:t>
            </a:r>
            <a:br>
              <a:rPr sz="2800"/>
            </a:b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Some initial points for the SmartGrid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Energy – one of the top priorities in the EU for a long time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Some of the directives initiating and shaping SmartGrid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enewable Energy Directive in 2001 - sets national indicative targets for renewable energy production from individual member stat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Internal Market in Electricity Directive in 2003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Emission Trading Scheme – considered as one of the pillars of Clean Energy launched in 2005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Second Renewable directive in 2009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More complete market opening and  unbundling of  TSO and DSO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BD0B-E98D-483D-B535-9D655D610D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EU Energy Policy: some of the latest develop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November 2016 – “Clean Energy For All Europeans” aka “Winter package”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06680" indent="-2718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aimed at further completing the internal market for electricity and implementing the Energy Union (February 2015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06680" indent="-2718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Includes different documents and proposal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87200" indent="-217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ules on a new power market design (including resource adequacy, and DSO and TSO service provis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87200" indent="-217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ules on the promotion and integration of renewabl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87200" indent="-217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ules on energy efficiency and performanc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87200" indent="-217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ules on the institutional framework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3F12-6DC9-44C3-95FE-EB81E94843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National Energy Policy: </a:t>
            </a:r>
            <a:br>
              <a:rPr sz="2800"/>
            </a:b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Some of the latest developments in the 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Learning from LCNF/NIC/NIA project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Energy network Association lead work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658440" indent="-253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Transmission-Distribution Interface  workgroup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658440" indent="-253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TSO-DSO Project -  now ENA Open Networks Projec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13040" indent="-20232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how networks will collaboratively meet future challenges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NG Grid: System Needs  and Product Strategy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Ongoing Research: Looking into provision of services from various technologi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1f497d"/>
              </a:solidFill>
              <a:latin typeface="Corbel"/>
            </a:endParaRPr>
          </a:p>
        </p:txBody>
      </p:sp>
      <p:pic>
        <p:nvPicPr>
          <p:cNvPr id="249" name="Picture 2" descr="TSO-DSO Cross Cutting Issues"/>
          <p:cNvPicPr/>
          <p:nvPr/>
        </p:nvPicPr>
        <p:blipFill>
          <a:blip r:embed="rId1"/>
          <a:srcRect l="-7418" t="-750" r="-325" b="58072"/>
          <a:stretch/>
        </p:blipFill>
        <p:spPr>
          <a:xfrm>
            <a:off x="2163600" y="3979080"/>
            <a:ext cx="4062960" cy="7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6C3A-831C-4A2A-8453-9CA8FFA908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Lessons learned from evaluation of new operational tools and market models proposed and t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11400" indent="-3114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Evaluation of system operation, arrangements for management and provision of ancillary/balancing services at distribution level to  enable  better  DER  integration  and  utilisation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674640" indent="-2592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demand  participation  and  coordination  with  DG  availability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674640" indent="-2592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coordination of energy storage utilisation (both heat and electrical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241"/>
              </a:spcBef>
              <a:buNone/>
            </a:pPr>
            <a:endParaRPr b="0" lang="en-US" sz="1200" spc="-1" strike="noStrike">
              <a:solidFill>
                <a:srgbClr val="1f497d"/>
              </a:solidFill>
              <a:latin typeface="Corbel"/>
            </a:endParaRPr>
          </a:p>
          <a:p>
            <a:pPr marL="311400" indent="-3114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Learnings form market architectures to enable TSO-DSO integration and  enable participation of RES and DSM connected at distribution level in provision of ancillary services at transmission/wholesale level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1f497d"/>
              </a:solidFill>
              <a:latin typeface="Corbel"/>
            </a:endParaRPr>
          </a:p>
          <a:p>
            <a:pPr marL="311400" indent="-3114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Foundations for further analysis and comparison with EU strategy on future networks and development of market architectures and policy arrangements 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5DB4-F0CC-4BC7-B37A-C11848E5DA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Lessons learned from evaluation of new operational tools and market models proposed and t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Review new market models and strategies proposed in work on TSO-DSO coordination schemes and market architectur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Review interactions between ICT  and new market and operational model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Review outcomes of lesson learned from implementation of new models and tools carried out in national cases studies/pilot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15F2-4975-4DC4-B3EC-A4EF1FD84F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Evaluation of project outcomes in relation to current EU strategy towards further power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Evaluate approaches proposed by SmarNet project against the present EC strategies related to future development of the power 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35480" indent="-28296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eview SmartNet approaches to TSO-DSO integration proposed by EU strategic initiatives and polic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35480" indent="-28296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Evaluate how solutions and tools tested in WP4 and WP5 improve system operation and interaction between TSO and DSO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35480" indent="-28296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Evaluate implication of new architectures for electricity market operations and ways to address possible issues or barriers to TSO-DSO integr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9646-B8FB-4351-97F2-016DC50EE5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martNet-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ain Content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ain Content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End Slide">
  <a:themeElements>
    <a:clrScheme name="Custom 2">
      <a:dk1>
        <a:srgbClr val="000000"/>
      </a:dk1>
      <a:lt1>
        <a:srgbClr val="ffffff"/>
      </a:lt1>
      <a:dk2>
        <a:srgbClr val="3d72c4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End Slide">
  <a:themeElements>
    <a:clrScheme name="Custom 2">
      <a:dk1>
        <a:srgbClr val="000000"/>
      </a:dk1>
      <a:lt1>
        <a:srgbClr val="ffffff"/>
      </a:lt1>
      <a:dk2>
        <a:srgbClr val="3d72c4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martNet-template.potx</Template>
  <TotalTime>865</TotalTime>
  <Application>LibreOffice/7.4.7.2$Linux_X86_64 LibreOffice_project/40$Build-2</Application>
  <AppVersion>15.0000</AppVersion>
  <Words>648</Words>
  <Paragraphs>98</Paragraphs>
  <Company>Florence School of Regula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0:30:10Z</dcterms:created>
  <dc:creator>Janto McMullin</dc:creator>
  <dc:description/>
  <dc:language>en-US</dc:language>
  <cp:lastModifiedBy>wireless admin</cp:lastModifiedBy>
  <cp:lastPrinted>2016-04-07T08:06:41Z</cp:lastPrinted>
  <dcterms:modified xsi:type="dcterms:W3CDTF">2017-06-19T15:36:12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