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dt" idx="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B1D91C-6E54-42A9-8DBF-D7B1E3480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41F9CEC-7D52-405D-998D-70E2F1BD12F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E1138ED-4E05-4796-B47C-853E849371E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184480" y="44316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60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0232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42016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18448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0232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42016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0133C-B011-4EC0-8EC4-C177B2F158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347B7-FB14-43CF-9FF2-DFB55584B3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A71A6-CA92-4203-879F-B49657A8F4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4F386-9FFF-4EB7-AF32-4161A2B98E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9C8D0-61BB-4928-90B1-E0F082F3F5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5C7C0-B55E-46EF-8125-726A0A27BB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6D0CC-156B-4A00-9726-F3E554DAFE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60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86A40-5DF9-45AC-A6DF-62F9F1F1EB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BF2BF-B46B-45CF-AAAB-17924257A9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184480" y="44316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6B7F3-1B6F-4D4D-90A4-BD44E912FB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60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741A1-A6BF-4E2A-A6B0-7AE08D3C5B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0232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42016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18448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0232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42016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E2020-7181-4A7B-8F9B-1653270622D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FADBD-3052-4E47-8DD9-FF4F5BE80BC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B20D1-11E2-455D-BA3C-4AF3F62CB2E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F2918-1E8F-48ED-9F42-D011938587B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C00E4-03AD-493D-BAAD-2F1278A8720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92FD1-121A-41FF-9024-4E0240AA53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B7E16-5263-4DAD-8E6D-369BA3BC80D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8E5E7-46CF-4DC3-AC3F-EC921003E41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360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1AD76-FA38-4976-9AB9-601C0ED68A6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A2EEE-797E-4C30-A099-BBA65A6C247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184480" y="44316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7631E-93BB-4D67-92FA-D7E7B7F4537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360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423FA-2DE7-45F0-A1E8-4AA1ED479FF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232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42016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18448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232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42016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C7950-E73A-4450-9757-DBA8DA8F8FF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360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184480" y="44316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360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80232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42016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218448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80232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42016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360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184480" y="44316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360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80232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42016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218448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80232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42016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60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powerpoint Title bg.emf"/>
          <p:cNvPicPr/>
          <p:nvPr/>
        </p:nvPicPr>
        <p:blipFill>
          <a:blip r:embed="rId2"/>
          <a:stretch/>
        </p:blipFill>
        <p:spPr>
          <a:xfrm>
            <a:off x="-588600" y="128880"/>
            <a:ext cx="10350000" cy="7126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SmartNet-logo-horizontal.eps"/>
          <p:cNvPicPr/>
          <p:nvPr/>
        </p:nvPicPr>
        <p:blipFill>
          <a:blip r:embed="rId3"/>
          <a:stretch/>
        </p:blipFill>
        <p:spPr>
          <a:xfrm>
            <a:off x="4065480" y="136800"/>
            <a:ext cx="5050440" cy="1304280"/>
          </a:xfrm>
          <a:prstGeom prst="rect">
            <a:avLst/>
          </a:prstGeom>
          <a:ln w="0">
            <a:noFill/>
          </a:ln>
        </p:spPr>
      </p:pic>
      <p:sp>
        <p:nvSpPr>
          <p:cNvPr id="2" name="Text Placeholder 2"/>
          <p:cNvSpPr/>
          <p:nvPr/>
        </p:nvSpPr>
        <p:spPr>
          <a:xfrm>
            <a:off x="1483200" y="5799600"/>
            <a:ext cx="724356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Calibri"/>
              </a:rPr>
              <a:t>This project has received funding from the European Union’s Horizon 2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Calibri"/>
              </a:rPr>
              <a:t>research and innovation programme under grant agreement No 6914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1" descr="flag_yellow_eps.ps"/>
          <p:cNvPicPr/>
          <p:nvPr/>
        </p:nvPicPr>
        <p:blipFill>
          <a:blip r:embed="rId4"/>
          <a:stretch/>
        </p:blipFill>
        <p:spPr>
          <a:xfrm>
            <a:off x="457200" y="5860800"/>
            <a:ext cx="944640" cy="641160"/>
          </a:xfrm>
          <a:prstGeom prst="rect">
            <a:avLst/>
          </a:prstGeom>
          <a:ln w="0">
            <a:noFill/>
          </a:ln>
        </p:spPr>
      </p:pic>
      <p:sp>
        <p:nvSpPr>
          <p:cNvPr id="4" name="TextBox 12"/>
          <p:cNvSpPr/>
          <p:nvPr/>
        </p:nvSpPr>
        <p:spPr>
          <a:xfrm>
            <a:off x="4582080" y="1310760"/>
            <a:ext cx="40129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Smart TSO-DSO interaction schemes, market architectures and ICT Solutions for the integration of ancillary services from demand side management and distributed gen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3454560"/>
            <a:ext cx="621648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x-none" sz="2400" spc="-1" strike="noStrike">
                <a:solidFill>
                  <a:srgbClr val="4f81bd"/>
                </a:solidFill>
                <a:latin typeface="Calibri Light"/>
              </a:rPr>
              <a:t>Click to edit Master title sty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68360" y="4836240"/>
            <a:ext cx="6216480" cy="8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x-none" sz="1800" spc="-1" strike="noStrike">
                <a:solidFill>
                  <a:srgbClr val="1f497d"/>
                </a:solidFill>
                <a:latin typeface="Calibri"/>
              </a:rPr>
              <a:t>Click to edit Master text style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68360" y="2976840"/>
            <a:ext cx="4195440" cy="4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x-none" sz="1800" spc="-1" strike="noStrike">
                <a:solidFill>
                  <a:srgbClr val="1f497d"/>
                </a:solidFill>
                <a:latin typeface="Calibri"/>
              </a:rPr>
              <a:t>Click to edit Master text style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body"/>
          </p:nvPr>
        </p:nvSpPr>
        <p:spPr>
          <a:xfrm>
            <a:off x="468360" y="415800"/>
            <a:ext cx="1319400" cy="79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Drag picture to placeholder or click icon to add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SmartNet-logo-horizontal.eps"/>
          <p:cNvPicPr/>
          <p:nvPr/>
        </p:nvPicPr>
        <p:blipFill>
          <a:blip r:embed="rId2"/>
          <a:stretch/>
        </p:blipFill>
        <p:spPr>
          <a:xfrm>
            <a:off x="6635520" y="158040"/>
            <a:ext cx="2337480" cy="603360"/>
          </a:xfrm>
          <a:prstGeom prst="rect">
            <a:avLst/>
          </a:prstGeom>
          <a:ln w="0">
            <a:noFill/>
          </a:ln>
        </p:spPr>
      </p:pic>
      <p:sp>
        <p:nvSpPr>
          <p:cNvPr id="46" name="Oval 3"/>
          <p:cNvSpPr/>
          <p:nvPr/>
        </p:nvSpPr>
        <p:spPr>
          <a:xfrm>
            <a:off x="8354880" y="6390720"/>
            <a:ext cx="340560" cy="340560"/>
          </a:xfrm>
          <a:prstGeom prst="ellipse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24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chemeClr val="accent2"/>
                </a:solidFill>
                <a:latin typeface="Calibri Light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077200"/>
            <a:ext cx="40381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Click to edit Master text styles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cond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lnSpc>
                <a:spcPct val="130000"/>
              </a:lnSpc>
              <a:spcBef>
                <a:spcPts val="360"/>
              </a:spcBef>
              <a:buClr>
                <a:srgbClr val="1f497d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lnSpc>
                <a:spcPct val="130000"/>
              </a:lnSpc>
              <a:spcBef>
                <a:spcPts val="360"/>
              </a:spcBef>
              <a:buClr>
                <a:srgbClr val="1f497d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648320" y="2077200"/>
            <a:ext cx="40381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Click to edit Master text styles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cond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lnSpc>
                <a:spcPct val="130000"/>
              </a:lnSpc>
              <a:spcBef>
                <a:spcPts val="360"/>
              </a:spcBef>
              <a:buClr>
                <a:srgbClr val="1f497d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lnSpc>
                <a:spcPct val="130000"/>
              </a:lnSpc>
              <a:spcBef>
                <a:spcPts val="360"/>
              </a:spcBef>
              <a:buClr>
                <a:srgbClr val="1f497d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1"/>
          </p:nvPr>
        </p:nvSpPr>
        <p:spPr>
          <a:xfrm>
            <a:off x="8304120" y="6372000"/>
            <a:ext cx="4564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4A5F368-C5F4-47F7-85C7-1E999A9084CD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SmartNet-logo-horizontal.eps"/>
          <p:cNvPicPr/>
          <p:nvPr/>
        </p:nvPicPr>
        <p:blipFill>
          <a:blip r:embed="rId2"/>
          <a:stretch/>
        </p:blipFill>
        <p:spPr>
          <a:xfrm>
            <a:off x="6635520" y="158040"/>
            <a:ext cx="2337480" cy="603360"/>
          </a:xfrm>
          <a:prstGeom prst="rect">
            <a:avLst/>
          </a:prstGeom>
          <a:ln w="0">
            <a:noFill/>
          </a:ln>
        </p:spPr>
      </p:pic>
      <p:sp>
        <p:nvSpPr>
          <p:cNvPr id="88" name="Oval 3"/>
          <p:cNvSpPr/>
          <p:nvPr/>
        </p:nvSpPr>
        <p:spPr>
          <a:xfrm>
            <a:off x="8354880" y="6390720"/>
            <a:ext cx="340560" cy="340560"/>
          </a:xfrm>
          <a:prstGeom prst="ellipse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24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chemeClr val="accent2"/>
                </a:solidFill>
                <a:latin typeface="Calibri Light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2113560"/>
            <a:ext cx="8229240" cy="41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Click to edit Master text styles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cond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lnSpc>
                <a:spcPct val="130000"/>
              </a:lnSpc>
              <a:spcBef>
                <a:spcPts val="320"/>
              </a:spcBef>
              <a:buClr>
                <a:srgbClr val="1f497d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Third level</a:t>
            </a:r>
            <a:endParaRPr b="0" lang="en-US" sz="16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lnSpc>
                <a:spcPct val="130000"/>
              </a:lnSpc>
              <a:spcBef>
                <a:spcPts val="320"/>
              </a:spcBef>
              <a:buClr>
                <a:srgbClr val="1f497d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Fourth level</a:t>
            </a:r>
            <a:endParaRPr b="0" lang="en-US" sz="16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lnSpc>
                <a:spcPct val="130000"/>
              </a:lnSpc>
              <a:spcBef>
                <a:spcPts val="320"/>
              </a:spcBef>
              <a:buClr>
                <a:srgbClr val="1f497d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Fifth level</a:t>
            </a:r>
            <a:endParaRPr b="0" lang="en-US" sz="1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2"/>
          </p:nvPr>
        </p:nvSpPr>
        <p:spPr>
          <a:xfrm>
            <a:off x="8293680" y="6372000"/>
            <a:ext cx="4564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1373EC2-B40A-4A90-A2D9-786A37AE0E57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6" descr="SmartNet-logo-horizontal.eps"/>
          <p:cNvPicPr/>
          <p:nvPr/>
        </p:nvPicPr>
        <p:blipFill>
          <a:blip r:embed="rId2"/>
          <a:stretch/>
        </p:blipFill>
        <p:spPr>
          <a:xfrm>
            <a:off x="2145240" y="494640"/>
            <a:ext cx="5050440" cy="1304280"/>
          </a:xfrm>
          <a:prstGeom prst="rect">
            <a:avLst/>
          </a:prstGeom>
          <a:ln w="0">
            <a:noFill/>
          </a:ln>
        </p:spPr>
      </p:pic>
      <p:sp>
        <p:nvSpPr>
          <p:cNvPr id="129" name="TextBox 6"/>
          <p:cNvSpPr/>
          <p:nvPr/>
        </p:nvSpPr>
        <p:spPr>
          <a:xfrm>
            <a:off x="1371600" y="5140440"/>
            <a:ext cx="6400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3d72c4"/>
                </a:solidFill>
                <a:uFillTx/>
                <a:latin typeface="Calibri"/>
              </a:rPr>
              <a:t>SmartNet-Project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SmartNet partner logos.png"/>
          <p:cNvPicPr/>
          <p:nvPr/>
        </p:nvPicPr>
        <p:blipFill>
          <a:blip r:embed="rId3"/>
          <a:stretch/>
        </p:blipFill>
        <p:spPr>
          <a:xfrm>
            <a:off x="1143360" y="1228320"/>
            <a:ext cx="6869520" cy="48625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39"/>
          <p:cNvSpPr/>
          <p:nvPr/>
        </p:nvSpPr>
        <p:spPr>
          <a:xfrm>
            <a:off x="1808640" y="5598000"/>
            <a:ext cx="555732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200" spc="-1" strike="noStrike">
                <a:solidFill>
                  <a:srgbClr val="4f81bd"/>
                </a:solidFill>
                <a:latin typeface="Calibri"/>
              </a:rPr>
              <a:t>This presentation reflects only the author’s view and the Innovation and Networks Executive Agency (INEA) is not responsible for any use that may be made of the information it cont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6" descr="SmartNet-logo-horizontal.eps"/>
          <p:cNvPicPr/>
          <p:nvPr/>
        </p:nvPicPr>
        <p:blipFill>
          <a:blip r:embed="rId2"/>
          <a:stretch/>
        </p:blipFill>
        <p:spPr>
          <a:xfrm>
            <a:off x="2145240" y="494640"/>
            <a:ext cx="5050440" cy="130428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"/>
          <p:cNvSpPr/>
          <p:nvPr/>
        </p:nvSpPr>
        <p:spPr>
          <a:xfrm>
            <a:off x="1950840" y="1981080"/>
            <a:ext cx="5303160" cy="5162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chemeClr val="dk1"/>
                </a:solidFill>
                <a:latin typeface="Calibri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ounded Rectangle 3"/>
          <p:cNvSpPr/>
          <p:nvPr/>
        </p:nvSpPr>
        <p:spPr>
          <a:xfrm>
            <a:off x="1859400" y="2865240"/>
            <a:ext cx="5394600" cy="3017160"/>
          </a:xfrm>
          <a:prstGeom prst="roundRect">
            <a:avLst>
              <a:gd name="adj" fmla="val 5814"/>
            </a:avLst>
          </a:prstGeom>
          <a:solidFill>
            <a:schemeClr val="lt1"/>
          </a:solidFill>
          <a:ln>
            <a:solidFill>
              <a:srgbClr val="6076b4"/>
            </a:solidFill>
            <a:round/>
          </a:ln>
          <a:effectLst>
            <a:outerShdw algn="tl" blurRad="69840" dir="2700000" dist="37674" rotWithShape="0">
              <a:schemeClr val="accent3">
                <a:lumMod val="50000"/>
                <a:alpha val="14000"/>
              </a:schemeClr>
            </a:outerShdw>
          </a:effectLst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6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3454560"/>
            <a:ext cx="621648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2400" spc="-1" strike="noStrike">
                <a:solidFill>
                  <a:schemeClr val="accent1"/>
                </a:solidFill>
                <a:latin typeface="Calibri Light"/>
              </a:rPr>
              <a:t>Regulatory, planning and operation implications of TSO-DSO coordination for ancillary services from distribution gri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4836240"/>
            <a:ext cx="6216480" cy="8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Dr Ivana Kockar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1f497d"/>
                </a:solidFill>
                <a:latin typeface="Calibri"/>
              </a:rPr>
              <a:t>University of Strathclyde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360" y="2976840"/>
            <a:ext cx="4607640" cy="4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PowerTech 2017, Manchester| 19 June 2017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24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chemeClr val="accent2"/>
                </a:solidFill>
                <a:latin typeface="Calibri Light"/>
              </a:rPr>
              <a:t>Policy Recommend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113560"/>
            <a:ext cx="8229240" cy="41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52080" indent="-35208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7375e"/>
                </a:solidFill>
                <a:latin typeface="Corbel"/>
              </a:rPr>
              <a:t>Set of recommendations for regulatory arrangements to enable DSO/TSO integration 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lvl="1" marL="762840" indent="-29340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Which new operational arrangements should be introduced to ensure secure DSO/TSO integr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62840" indent="-29340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How to improve or change market designs to enable provision of services that can help DSO/ TSO integr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62840" indent="-29340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Other policy recommendation to enable and entice all market participants as well as demand side response to enable DSO/TSO integr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62840" indent="-29340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How to replicate SmartNet concept on a large scale and which policies are neede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D1B38-3587-4F70-94A6-5D9C55DC5F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2072520" y="3231360"/>
            <a:ext cx="4998240" cy="22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 Ivana Kock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en-US" sz="1800" spc="-1" strike="noStrike">
                <a:solidFill>
                  <a:srgbClr val="1e3963"/>
                </a:solidFill>
                <a:latin typeface="Calibri"/>
              </a:rPr>
              <a:t>Contact 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ffiliation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niversity of Strathcly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hone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+44 (0)141 541 311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mail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vana.Kockar@strath.ac.u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24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chemeClr val="accent2"/>
                </a:solidFill>
                <a:latin typeface="Calibri Light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077200"/>
            <a:ext cx="40381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Where does this policy work fit within the SmartNet project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What will influence the work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Timeline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General overview and background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48320" y="2077200"/>
            <a:ext cx="40381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Some particular details that we plan to address: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Lessons learne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How does it fit with the existing EU regul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Policy recommendation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7B82E-1FF0-4D7A-AA79-9768800E0A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26"/>
          <p:cNvGrpSpPr/>
          <p:nvPr/>
        </p:nvGrpSpPr>
        <p:grpSpPr>
          <a:xfrm>
            <a:off x="567000" y="256680"/>
            <a:ext cx="7947000" cy="4209120"/>
            <a:chOff x="567000" y="256680"/>
            <a:chExt cx="7947000" cy="4209120"/>
          </a:xfrm>
        </p:grpSpPr>
        <p:sp>
          <p:nvSpPr>
            <p:cNvPr id="224" name="Rounded Rectangle 5"/>
            <p:cNvSpPr/>
            <p:nvPr/>
          </p:nvSpPr>
          <p:spPr>
            <a:xfrm>
              <a:off x="567000" y="593640"/>
              <a:ext cx="1254240" cy="658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e7fcc"/>
                </a:gs>
                <a:gs pos="100000">
                  <a:srgbClr val="a4c1ff"/>
                </a:gs>
              </a:gsLst>
              <a:lin ang="16200000"/>
            </a:gradFill>
            <a:ln>
              <a:solidFill>
                <a:srgbClr val="4a7ebb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chemeClr val="lt1"/>
                  </a:solidFill>
                  <a:latin typeface="Calibri"/>
                </a:rPr>
                <a:t>WP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ounded Rectangle 6"/>
            <p:cNvSpPr/>
            <p:nvPr/>
          </p:nvSpPr>
          <p:spPr>
            <a:xfrm>
              <a:off x="567000" y="2428560"/>
              <a:ext cx="1254240" cy="658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e7fcc"/>
                </a:gs>
                <a:gs pos="100000">
                  <a:srgbClr val="a4c1ff"/>
                </a:gs>
              </a:gsLst>
              <a:lin ang="16200000"/>
            </a:gradFill>
            <a:ln>
              <a:solidFill>
                <a:srgbClr val="4a7ebb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chemeClr val="lt1"/>
                  </a:solidFill>
                  <a:latin typeface="Calibri"/>
                </a:rPr>
                <a:t>WP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ounded Rectangle 7"/>
            <p:cNvSpPr/>
            <p:nvPr/>
          </p:nvSpPr>
          <p:spPr>
            <a:xfrm>
              <a:off x="567000" y="1511280"/>
              <a:ext cx="1254240" cy="658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e7fcc"/>
                </a:gs>
                <a:gs pos="100000">
                  <a:srgbClr val="a4c1ff"/>
                </a:gs>
              </a:gsLst>
              <a:lin ang="16200000"/>
            </a:gradFill>
            <a:ln>
              <a:solidFill>
                <a:srgbClr val="4a7ebb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chemeClr val="lt1"/>
                  </a:solidFill>
                  <a:latin typeface="Calibri"/>
                </a:rPr>
                <a:t>WP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ounded Rectangle 8"/>
            <p:cNvSpPr/>
            <p:nvPr/>
          </p:nvSpPr>
          <p:spPr>
            <a:xfrm>
              <a:off x="2944440" y="410760"/>
              <a:ext cx="1254240" cy="2815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e7fcc"/>
                </a:gs>
                <a:gs pos="100000">
                  <a:srgbClr val="a4c1ff"/>
                </a:gs>
              </a:gsLst>
              <a:lin ang="16200000"/>
            </a:gradFill>
            <a:ln>
              <a:solidFill>
                <a:srgbClr val="4a7ebb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chemeClr val="lt1"/>
                  </a:solidFill>
                  <a:latin typeface="Calibri"/>
                </a:rPr>
                <a:t>WP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ounded Rectangle 9"/>
            <p:cNvSpPr/>
            <p:nvPr/>
          </p:nvSpPr>
          <p:spPr>
            <a:xfrm>
              <a:off x="5212440" y="1265760"/>
              <a:ext cx="1201680" cy="2325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e7fcc"/>
                </a:gs>
                <a:gs pos="100000">
                  <a:srgbClr val="a4c1ff"/>
                </a:gs>
              </a:gsLst>
              <a:lin ang="16200000"/>
            </a:gradFill>
            <a:ln>
              <a:solidFill>
                <a:srgbClr val="4a7ebb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chemeClr val="lt1"/>
                  </a:solidFill>
                  <a:latin typeface="Calibri"/>
                </a:rPr>
                <a:t>WP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ounded Rectangle 10"/>
            <p:cNvSpPr/>
            <p:nvPr/>
          </p:nvSpPr>
          <p:spPr>
            <a:xfrm>
              <a:off x="7307280" y="2251800"/>
              <a:ext cx="1206720" cy="1447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e7fcc"/>
                </a:gs>
                <a:gs pos="100000">
                  <a:srgbClr val="a4c1ff"/>
                </a:gs>
              </a:gsLst>
              <a:lin ang="16200000"/>
            </a:gradFill>
            <a:ln>
              <a:solidFill>
                <a:srgbClr val="4a7ebb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chemeClr val="lt1"/>
                  </a:solidFill>
                  <a:latin typeface="Calibri"/>
                </a:rPr>
                <a:t>WP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ight Arrow 11"/>
            <p:cNvSpPr/>
            <p:nvPr/>
          </p:nvSpPr>
          <p:spPr>
            <a:xfrm>
              <a:off x="1821240" y="840600"/>
              <a:ext cx="1122480" cy="1641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>
              <a:solidFill>
                <a:srgbClr val="ff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1" name="Right Arrow 14"/>
            <p:cNvSpPr/>
            <p:nvPr/>
          </p:nvSpPr>
          <p:spPr>
            <a:xfrm>
              <a:off x="4172760" y="2008080"/>
              <a:ext cx="1039320" cy="1566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>
              <a:solidFill>
                <a:srgbClr val="ff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33480" bIns="33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2" name="Right Arrow 15"/>
            <p:cNvSpPr/>
            <p:nvPr/>
          </p:nvSpPr>
          <p:spPr>
            <a:xfrm>
              <a:off x="6414840" y="2811240"/>
              <a:ext cx="892080" cy="1641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>
              <a:solidFill>
                <a:srgbClr val="ff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3" name="Right Arrow 16"/>
            <p:cNvSpPr/>
            <p:nvPr/>
          </p:nvSpPr>
          <p:spPr>
            <a:xfrm rot="5400000">
              <a:off x="7639560" y="3897360"/>
              <a:ext cx="542880" cy="1641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>
              <a:solidFill>
                <a:srgbClr val="ff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4" name="Right Arrow 17"/>
            <p:cNvSpPr/>
            <p:nvPr/>
          </p:nvSpPr>
          <p:spPr>
            <a:xfrm>
              <a:off x="1808280" y="1765800"/>
              <a:ext cx="1122480" cy="1641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>
              <a:solidFill>
                <a:srgbClr val="ff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5" name="Right Arrow 18"/>
            <p:cNvSpPr/>
            <p:nvPr/>
          </p:nvSpPr>
          <p:spPr>
            <a:xfrm>
              <a:off x="1821240" y="2675520"/>
              <a:ext cx="1122480" cy="1641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>
              <a:solidFill>
                <a:srgbClr val="ff0000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6" name="TextBox 19"/>
            <p:cNvSpPr/>
            <p:nvPr/>
          </p:nvSpPr>
          <p:spPr>
            <a:xfrm>
              <a:off x="1719360" y="1234800"/>
              <a:ext cx="13132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arket mod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peci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Box 21"/>
            <p:cNvSpPr/>
            <p:nvPr/>
          </p:nvSpPr>
          <p:spPr>
            <a:xfrm>
              <a:off x="1829160" y="256680"/>
              <a:ext cx="11502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/D mo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peci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22"/>
            <p:cNvSpPr/>
            <p:nvPr/>
          </p:nvSpPr>
          <p:spPr>
            <a:xfrm>
              <a:off x="1965960" y="2164680"/>
              <a:ext cx="7236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peci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23"/>
            <p:cNvSpPr/>
            <p:nvPr/>
          </p:nvSpPr>
          <p:spPr>
            <a:xfrm>
              <a:off x="4228920" y="1175400"/>
              <a:ext cx="96588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National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ases in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lab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24"/>
            <p:cNvSpPr/>
            <p:nvPr/>
          </p:nvSpPr>
          <p:spPr>
            <a:xfrm>
              <a:off x="6549120" y="2208240"/>
              <a:ext cx="6231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lot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s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25"/>
            <p:cNvSpPr/>
            <p:nvPr/>
          </p:nvSpPr>
          <p:spPr>
            <a:xfrm>
              <a:off x="6584040" y="3827520"/>
              <a:ext cx="11822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egulatory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guideli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Picture 28" descr=""/>
          <p:cNvPicPr/>
          <p:nvPr/>
        </p:nvPicPr>
        <p:blipFill>
          <a:blip r:embed="rId1"/>
          <a:srcRect l="0" t="6765" r="0" b="0"/>
          <a:stretch/>
        </p:blipFill>
        <p:spPr>
          <a:xfrm>
            <a:off x="935640" y="4824360"/>
            <a:ext cx="6616800" cy="1780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E6D08-ECE4-44F0-827E-024DA8158A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9296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chemeClr val="accent2"/>
                </a:solidFill>
                <a:latin typeface="Calibri Light"/>
              </a:rPr>
              <a:t>EU Energy Policy: </a:t>
            </a:r>
            <a:br>
              <a:rPr sz="2800"/>
            </a:br>
            <a:r>
              <a:rPr b="0" lang="en-US" sz="2800" spc="-1" strike="noStrike">
                <a:solidFill>
                  <a:schemeClr val="accent2"/>
                </a:solidFill>
                <a:latin typeface="Calibri Light"/>
              </a:rPr>
              <a:t>Some initial points for the SmartGrid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113560"/>
            <a:ext cx="8229240" cy="41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7375e"/>
                </a:solidFill>
                <a:latin typeface="Corbel"/>
              </a:rPr>
              <a:t>Energy – one of the top priorities in the EU for a long time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7375e"/>
                </a:solidFill>
                <a:latin typeface="Corbel"/>
              </a:rPr>
              <a:t>Some of the directives initiating and shaping SmartGrids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Renewable Energy Directive in 2001 - sets national indicative targets for renewable energy production from individual member state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Internal Market in Electricity Directive in 2003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Emission Trading Scheme – considered as one of the pillars of Clean Energy launched in 2005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Second Renewable directive in 2009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lnSpc>
                <a:spcPct val="130000"/>
              </a:lnSpc>
              <a:spcBef>
                <a:spcPts val="320"/>
              </a:spcBef>
              <a:buClr>
                <a:srgbClr val="558ed5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More complete market opening and  unbundling of  TSO and DSO</a:t>
            </a:r>
            <a:endParaRPr b="0" lang="en-US" sz="16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4903D-9956-4BB5-9852-D3DC277FAA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9296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chemeClr val="accent2"/>
                </a:solidFill>
                <a:latin typeface="Calibri Light"/>
              </a:rPr>
              <a:t>EU Energy Policy: some of the latest develop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113560"/>
            <a:ext cx="8229240" cy="41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6160" indent="-32616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7375e"/>
                </a:solidFill>
                <a:latin typeface="Corbel"/>
              </a:rPr>
              <a:t>November 2016 – “Clean Energy For All Europeans” aka “Winter package”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lvl="1" marL="706680" indent="-27180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aimed at further completing the internal market for electricity and implementing the Energy Union (February 2015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lvl="1" marL="706680" indent="-27180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Includes different documents and proposals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1087200" indent="-21708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rules on a new power market design (including resource adequacy, and DSO and TSO service provision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1087200" indent="-21708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rules on the promotion and integration of renewable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1087200" indent="-21708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rules on energy efficiency and performance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1087200" indent="-21708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rules on the institutional framework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23103-597A-4D87-9DF7-9AF8B7C411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9296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chemeClr val="accent2"/>
                </a:solidFill>
                <a:latin typeface="Calibri Light"/>
              </a:rPr>
              <a:t>National Energy Policy: </a:t>
            </a:r>
            <a:br>
              <a:rPr sz="2800"/>
            </a:br>
            <a:r>
              <a:rPr b="0" lang="en-US" sz="2800" spc="-1" strike="noStrike">
                <a:solidFill>
                  <a:schemeClr val="accent2"/>
                </a:solidFill>
                <a:latin typeface="Calibri Light"/>
              </a:rPr>
              <a:t>Some of the latest developments in the U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113560"/>
            <a:ext cx="8229240" cy="41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03840" indent="-30384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7375e"/>
                </a:solidFill>
                <a:latin typeface="Corbel"/>
              </a:rPr>
              <a:t>Learning from LCNF/NIC/NIA projects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03840" indent="-30384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7375e"/>
                </a:solidFill>
                <a:latin typeface="Corbel"/>
              </a:rPr>
              <a:t>Energy network Association lead work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lvl="1" marL="658440" indent="-25308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Transmission-Distribution Interface  workgroup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658440" indent="-25308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TSO-DSO Project -  now ENA Open Networks Projec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1013040" indent="-202320">
              <a:lnSpc>
                <a:spcPct val="130000"/>
              </a:lnSpc>
              <a:spcBef>
                <a:spcPts val="320"/>
              </a:spcBef>
              <a:buClr>
                <a:srgbClr val="558ed5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how networks will collaboratively meet future challenges</a:t>
            </a:r>
            <a:endParaRPr b="0" lang="en-US" sz="16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1f497d"/>
              </a:solidFill>
              <a:latin typeface="Corbel"/>
            </a:endParaRPr>
          </a:p>
          <a:p>
            <a:pPr indent="0">
              <a:lnSpc>
                <a:spcPct val="13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1f497d"/>
              </a:solidFill>
              <a:latin typeface="Corbel"/>
            </a:endParaRPr>
          </a:p>
          <a:p>
            <a:pPr indent="0">
              <a:lnSpc>
                <a:spcPct val="13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03840" indent="-30384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7375e"/>
                </a:solidFill>
                <a:latin typeface="Corbel"/>
              </a:rPr>
              <a:t>NG Grid: System Needs  and Product Strategy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03840" indent="-30384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7375e"/>
                </a:solidFill>
                <a:latin typeface="Corbel"/>
              </a:rPr>
              <a:t>Ongoing Research: Looking into provision of services from various technologies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indent="0">
              <a:lnSpc>
                <a:spcPct val="13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1f497d"/>
              </a:solidFill>
              <a:latin typeface="Corbel"/>
            </a:endParaRPr>
          </a:p>
        </p:txBody>
      </p:sp>
      <p:pic>
        <p:nvPicPr>
          <p:cNvPr id="249" name="Picture 2" descr="TSO-DSO Cross Cutting Issues"/>
          <p:cNvPicPr/>
          <p:nvPr/>
        </p:nvPicPr>
        <p:blipFill>
          <a:blip r:embed="rId1"/>
          <a:srcRect l="-7418" t="-750" r="-325" b="58072"/>
          <a:stretch/>
        </p:blipFill>
        <p:spPr>
          <a:xfrm>
            <a:off x="2163600" y="3979080"/>
            <a:ext cx="4062960" cy="70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94492-404D-4011-8A8C-0ED8D7A09E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9296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chemeClr val="accent2"/>
                </a:solidFill>
                <a:latin typeface="Calibri Light"/>
              </a:rPr>
              <a:t>Lessons learned from evaluation of new operational tools and market models proposed and tes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113560"/>
            <a:ext cx="8229240" cy="41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11400" indent="-31140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7375e"/>
                </a:solidFill>
                <a:latin typeface="Corbel"/>
              </a:rPr>
              <a:t>Evaluation of system operation, arrangements for management and provision of ancillary/balancing services at distribution level to  enable  better  DER  integration  and  utilisation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lvl="1" marL="674640" indent="-25920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demand  participation  and  coordination  with  DG  availability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674640" indent="-25920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coordination of energy storage utilisation (both heat and electrical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241"/>
              </a:spcBef>
              <a:buNone/>
            </a:pPr>
            <a:endParaRPr b="0" lang="en-US" sz="1200" spc="-1" strike="noStrike">
              <a:solidFill>
                <a:srgbClr val="1f497d"/>
              </a:solidFill>
              <a:latin typeface="Corbel"/>
            </a:endParaRPr>
          </a:p>
          <a:p>
            <a:pPr marL="311400" indent="-31140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7375e"/>
                </a:solidFill>
                <a:latin typeface="Corbel"/>
              </a:rPr>
              <a:t>Learnings form market architectures to enable TSO-DSO integration and  enable participation of RES and DSM connected at distribution level in provision of ancillary services at transmission/wholesale level.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indent="0">
              <a:lnSpc>
                <a:spcPct val="130000"/>
              </a:lnSpc>
              <a:spcBef>
                <a:spcPts val="300"/>
              </a:spcBef>
              <a:buNone/>
            </a:pPr>
            <a:endParaRPr b="0" lang="en-US" sz="1500" spc="-1" strike="noStrike">
              <a:solidFill>
                <a:srgbClr val="1f497d"/>
              </a:solidFill>
              <a:latin typeface="Corbel"/>
            </a:endParaRPr>
          </a:p>
          <a:p>
            <a:pPr marL="311400" indent="-31140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7375e"/>
                </a:solidFill>
                <a:latin typeface="Corbel"/>
              </a:rPr>
              <a:t>Foundations for further analysis and comparison with EU strategy on future networks and development of market architectures and policy arrangements 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096FC-CED4-425B-A460-078C55257B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9296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chemeClr val="accent2"/>
                </a:solidFill>
                <a:latin typeface="Calibri Light"/>
              </a:rPr>
              <a:t>Lessons learned from evaluation of new operational tools and market models proposed and tes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2113560"/>
            <a:ext cx="8229240" cy="41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7375e"/>
                </a:solidFill>
                <a:latin typeface="Corbel"/>
              </a:rPr>
              <a:t>Review new market models and strategies proposed in work on TSO-DSO coordination schemes and market architectures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7375e"/>
                </a:solidFill>
                <a:latin typeface="Corbel"/>
              </a:rPr>
              <a:t> </a:t>
            </a:r>
            <a:r>
              <a:rPr b="0" lang="en-US" sz="2000" spc="-1" strike="noStrike">
                <a:solidFill>
                  <a:srgbClr val="17375e"/>
                </a:solidFill>
                <a:latin typeface="Corbel"/>
              </a:rPr>
              <a:t>Review interactions between ICT  and new market and operational models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7375e"/>
                </a:solidFill>
                <a:latin typeface="Corbel"/>
              </a:rPr>
              <a:t>Review outcomes of lesson learned from implementation of new models and tools carried out in national cases studies/pilot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3CC9A-631C-4B7E-A87A-6432D9F43B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24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chemeClr val="accent2"/>
                </a:solidFill>
                <a:latin typeface="Calibri Light"/>
              </a:rPr>
              <a:t>Evaluation of project outcomes in relation to current EU strategy towards further power net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113560"/>
            <a:ext cx="8229240" cy="41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400"/>
              </a:spcBef>
              <a:buClr>
                <a:srgbClr val="17375e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7375e"/>
                </a:solidFill>
                <a:latin typeface="Corbel"/>
              </a:rPr>
              <a:t>Evaluate approaches proposed by SmarNet project against the present EC strategies related to future development of the power 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lvl="1" marL="735480" indent="-28296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Review SmartNet approaches to TSO-DSO integration proposed by EU strategic initiatives and polici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35480" indent="-28296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Evaluate how solutions and tools tested in WP4 and WP5 improve system operation and interaction between TSO and DSO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35480" indent="-28296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Evaluate implication of new architectures for electricity market operations and ways to address possible issues or barriers to TSO-DSO integr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C4603-E952-4FFD-83B2-1982B1D290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SmartNet-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ain Content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Main Content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End Slide">
  <a:themeElements>
    <a:clrScheme name="Custom 2">
      <a:dk1>
        <a:srgbClr val="000000"/>
      </a:dk1>
      <a:lt1>
        <a:srgbClr val="ffffff"/>
      </a:lt1>
      <a:dk2>
        <a:srgbClr val="3d72c4"/>
      </a:dk2>
      <a:lt2>
        <a:srgbClr val="e4e9ef"/>
      </a:lt2>
      <a:accent1>
        <a:srgbClr val="6076b4"/>
      </a:accent1>
      <a:accent2>
        <a:srgbClr val="9c5252"/>
      </a:accent2>
      <a:accent3>
        <a:srgbClr val="e68422"/>
      </a:accent3>
      <a:accent4>
        <a:srgbClr val="846648"/>
      </a:accent4>
      <a:accent5>
        <a:srgbClr val="63891f"/>
      </a:accent5>
      <a:accent6>
        <a:srgbClr val="758085"/>
      </a:accent6>
      <a:hlink>
        <a:srgbClr val="3399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End Slide">
  <a:themeElements>
    <a:clrScheme name="Custom 2">
      <a:dk1>
        <a:srgbClr val="000000"/>
      </a:dk1>
      <a:lt1>
        <a:srgbClr val="ffffff"/>
      </a:lt1>
      <a:dk2>
        <a:srgbClr val="3d72c4"/>
      </a:dk2>
      <a:lt2>
        <a:srgbClr val="e4e9ef"/>
      </a:lt2>
      <a:accent1>
        <a:srgbClr val="6076b4"/>
      </a:accent1>
      <a:accent2>
        <a:srgbClr val="9c5252"/>
      </a:accent2>
      <a:accent3>
        <a:srgbClr val="e68422"/>
      </a:accent3>
      <a:accent4>
        <a:srgbClr val="846648"/>
      </a:accent4>
      <a:accent5>
        <a:srgbClr val="63891f"/>
      </a:accent5>
      <a:accent6>
        <a:srgbClr val="758085"/>
      </a:accent6>
      <a:hlink>
        <a:srgbClr val="3399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martNet-template.potx</Template>
  <TotalTime>865</TotalTime>
  <Application>LibreOffice/7.4.7.2$Linux_X86_64 LibreOffice_project/40$Build-2</Application>
  <AppVersion>15.0000</AppVersion>
  <Words>648</Words>
  <Paragraphs>98</Paragraphs>
  <Company>Florence School of Regulatio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9T10:30:10Z</dcterms:created>
  <dc:creator>Janto McMullin</dc:creator>
  <dc:description/>
  <dc:language>en-US</dc:language>
  <cp:lastModifiedBy>wireless admin</cp:lastModifiedBy>
  <cp:lastPrinted>2016-04-07T08:06:41Z</cp:lastPrinted>
  <dcterms:modified xsi:type="dcterms:W3CDTF">2017-06-19T15:36:12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On-screen Show (4:3)</vt:lpwstr>
  </property>
  <property fmtid="{D5CDD505-2E9C-101B-9397-08002B2CF9AE}" pid="4" name="Slides">
    <vt:r8>12</vt:r8>
  </property>
</Properties>
</file>