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91507F-46FE-4027-B62E-16D36FB7F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2AF492-CE54-4A6B-857F-27522E30444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4994FC-B9E8-4538-BC94-8134BD35E5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DD9C-F784-4EAD-B5D6-16BD53D39D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1482-2599-4D22-A364-EB4603C934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82AA-8C11-4773-9397-DB2F815DC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35B1-8991-413A-93F8-14871DD82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7FEC-EF26-4267-9DA6-2853C2C834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9AEA-A7B5-40E7-BCB7-4322F38BE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6EFE-E3C6-4FCB-823C-C3F8D680F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4688-B805-4D7E-8528-048A66827A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B7DE-A831-47EC-B3FD-7DACD9545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F3D4-C746-49AD-AFAC-21DE4FE151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8560-46B4-45CD-917D-1EA22E2A56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AC6C-41F7-457C-BE89-F34478ED21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138B-F019-426C-8FBD-6EA737AA36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3E5A-E922-4FBA-9A54-AB1FE7F531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CFA1-A74C-408F-B98E-6EF2735F35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834C-4472-4AA9-82C8-106A8A93CB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F92E-7DAC-41A4-B630-5A39FDD5A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2C64-7F2E-4C34-BA80-A5A882D9B2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BFAF-0C15-4ECB-ACF7-E1B8904B14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76DB-4609-4441-A081-2901AA39FE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D2E1-5C60-4BF2-A041-85F2238E6B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AA89-E11F-4F29-A6D5-7B0D6FCD33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535A-4E8D-4A43-ACF6-1AD3FBB688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2B0C-D81D-4386-A4B5-45D8FB0EDE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1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556AE8-7B57-40B0-843E-003E77A4432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1DAEF7-3E13-48F9-A285-AA9CE93FF96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martNet partner logos.png"/>
          <p:cNvPicPr/>
          <p:nvPr/>
        </p:nvPicPr>
        <p:blipFill>
          <a:blip r:embed="rId3"/>
          <a:stretch/>
        </p:blipFill>
        <p:spPr>
          <a:xfrm>
            <a:off x="1143360" y="1228320"/>
            <a:ext cx="6869520" cy="4862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accent1"/>
                </a:solidFill>
                <a:latin typeface="Calibri Light"/>
              </a:rPr>
              <a:t>Regulatory, planning and operation implications of TSO-DSO coordination for ancillary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r Ivana Kockar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University of Strathcly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46076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owerTech 2017, Manchester| 19 June 2017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-352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et of recommendations for regulatory arrangements to enable DSO/TSO integration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ich new operational arrangements should be introduced to ensure secur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improve or change market designs to enable provision of services that can help DSO/ 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Other policy recommendation to enable and entice all market participants as well as demand side response to enabl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replicate SmartNet concept on a large scale and which policies are need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EE26-6767-4FC5-8E43-676A86690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 Ivana Kock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44 (0)141 541 3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ana.Kockar@strath.ac.u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here does this policy work fit within the SmartNet projec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at will influence the work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General overview and background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ome particular details that we plan to address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does it fit with the existing EU regul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Policy recommenda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A819-8B5A-46D5-88B2-52AC8B664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6"/>
          <p:cNvGrpSpPr/>
          <p:nvPr/>
        </p:nvGrpSpPr>
        <p:grpSpPr>
          <a:xfrm>
            <a:off x="567000" y="256680"/>
            <a:ext cx="7947000" cy="4209120"/>
            <a:chOff x="567000" y="256680"/>
            <a:chExt cx="7947000" cy="4209120"/>
          </a:xfrm>
        </p:grpSpPr>
        <p:sp>
          <p:nvSpPr>
            <p:cNvPr id="224" name="Rounded Rectangle 5"/>
            <p:cNvSpPr/>
            <p:nvPr/>
          </p:nvSpPr>
          <p:spPr>
            <a:xfrm>
              <a:off x="567000" y="59364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6"/>
            <p:cNvSpPr/>
            <p:nvPr/>
          </p:nvSpPr>
          <p:spPr>
            <a:xfrm>
              <a:off x="567000" y="242856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7"/>
            <p:cNvSpPr/>
            <p:nvPr/>
          </p:nvSpPr>
          <p:spPr>
            <a:xfrm>
              <a:off x="567000" y="151128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ed Rectangle 8"/>
            <p:cNvSpPr/>
            <p:nvPr/>
          </p:nvSpPr>
          <p:spPr>
            <a:xfrm>
              <a:off x="2944440" y="410760"/>
              <a:ext cx="1254240" cy="28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9"/>
            <p:cNvSpPr/>
            <p:nvPr/>
          </p:nvSpPr>
          <p:spPr>
            <a:xfrm>
              <a:off x="5212440" y="1265760"/>
              <a:ext cx="1201680" cy="23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10"/>
            <p:cNvSpPr/>
            <p:nvPr/>
          </p:nvSpPr>
          <p:spPr>
            <a:xfrm>
              <a:off x="7307280" y="2251800"/>
              <a:ext cx="1206720" cy="144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ight Arrow 11"/>
            <p:cNvSpPr/>
            <p:nvPr/>
          </p:nvSpPr>
          <p:spPr>
            <a:xfrm>
              <a:off x="1821240" y="8406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Right Arrow 14"/>
            <p:cNvSpPr/>
            <p:nvPr/>
          </p:nvSpPr>
          <p:spPr>
            <a:xfrm>
              <a:off x="4172760" y="2008080"/>
              <a:ext cx="1039320" cy="156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Right Arrow 15"/>
            <p:cNvSpPr/>
            <p:nvPr/>
          </p:nvSpPr>
          <p:spPr>
            <a:xfrm>
              <a:off x="6414840" y="2811240"/>
              <a:ext cx="8920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ight Arrow 16"/>
            <p:cNvSpPr/>
            <p:nvPr/>
          </p:nvSpPr>
          <p:spPr>
            <a:xfrm rot="5400000">
              <a:off x="7639560" y="3897360"/>
              <a:ext cx="5428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ight Arrow 17"/>
            <p:cNvSpPr/>
            <p:nvPr/>
          </p:nvSpPr>
          <p:spPr>
            <a:xfrm>
              <a:off x="1808280" y="17658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ight Arrow 18"/>
            <p:cNvSpPr/>
            <p:nvPr/>
          </p:nvSpPr>
          <p:spPr>
            <a:xfrm>
              <a:off x="1821240" y="267552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19"/>
            <p:cNvSpPr/>
            <p:nvPr/>
          </p:nvSpPr>
          <p:spPr>
            <a:xfrm>
              <a:off x="1719360" y="1234800"/>
              <a:ext cx="1313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rket mo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1"/>
            <p:cNvSpPr/>
            <p:nvPr/>
          </p:nvSpPr>
          <p:spPr>
            <a:xfrm>
              <a:off x="1829160" y="256680"/>
              <a:ext cx="1150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/D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2"/>
            <p:cNvSpPr/>
            <p:nvPr/>
          </p:nvSpPr>
          <p:spPr>
            <a:xfrm>
              <a:off x="1965960" y="2164680"/>
              <a:ext cx="723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3"/>
            <p:cNvSpPr/>
            <p:nvPr/>
          </p:nvSpPr>
          <p:spPr>
            <a:xfrm>
              <a:off x="4228920" y="1175400"/>
              <a:ext cx="965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ses i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4"/>
            <p:cNvSpPr/>
            <p:nvPr/>
          </p:nvSpPr>
          <p:spPr>
            <a:xfrm>
              <a:off x="6549120" y="2208240"/>
              <a:ext cx="623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lo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5"/>
            <p:cNvSpPr/>
            <p:nvPr/>
          </p:nvSpPr>
          <p:spPr>
            <a:xfrm>
              <a:off x="6584040" y="3827520"/>
              <a:ext cx="1182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8" descr=""/>
          <p:cNvPicPr/>
          <p:nvPr/>
        </p:nvPicPr>
        <p:blipFill>
          <a:blip r:embed="rId1"/>
          <a:srcRect l="0" t="6765" r="0" b="0"/>
          <a:stretch/>
        </p:blipFill>
        <p:spPr>
          <a:xfrm>
            <a:off x="935640" y="4824360"/>
            <a:ext cx="6616800" cy="17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1388-E2FB-438A-A379-3BEA5E0EC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initial points for the SmartGrid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– one of the top priorities in the EU for a long tim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ome of the directives initiating and shaping SmartGrid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newable Energy Directive in 2001 - sets national indicative targets for renewable energy production from individual member stat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Internal Market in Electricity Directive in 2003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mission Trading Scheme – considered as one of the pillars of Clean Energy launched in 2005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Renewable directive in 2009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More complete market opening and  unbundling of  TSO and DSO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0B54-35B3-431D-BE7B-BD0AC6880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some of the latest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ovember 2016 – “Clean Energy For All Europeans” aka “Winter package”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imed at further completing the internal market for electricity and implementing the Energy Union (February 2015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ncludes different documents and proposal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a new power market design (including resource adequacy, and DSO and TSO service provis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promotion and integration of renewabl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energy efficiency and performa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institutional framework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5857-2EA1-4690-8B74-41DEE758F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National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of the latest developments in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 from LCNF/NIC/NIA proj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network Association lead work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ransmission-Distribution Interface  workgroup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SO-DSO Project -  now ENA Open Networks Projec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13040" indent="-20232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how networks will collaboratively meet future challenges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G Grid: System Needs  and Product Strateg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Ongoing Research: Looking into provision of services from various technologi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</p:txBody>
      </p:sp>
      <p:pic>
        <p:nvPicPr>
          <p:cNvPr id="249" name="Picture 2" descr="TSO-DSO Cross Cutting Issues"/>
          <p:cNvPicPr/>
          <p:nvPr/>
        </p:nvPicPr>
        <p:blipFill>
          <a:blip r:embed="rId1"/>
          <a:srcRect l="-7418" t="-750" r="-325" b="58072"/>
          <a:stretch/>
        </p:blipFill>
        <p:spPr>
          <a:xfrm>
            <a:off x="2163600" y="3979080"/>
            <a:ext cx="4062960" cy="7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7E76-46A9-4ECE-B6E3-D7A1D00698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ion of system operation, arrangements for management and provision of ancillary/balancing services at distribution level to  enable  better  DER  integration  and  utilisatio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demand  participation  and  coordination  with  DG  availabilit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coordination of energy storage utilisation (both heat and electrical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241"/>
              </a:spcBef>
              <a:buNone/>
            </a:pPr>
            <a:endParaRPr b="0" lang="en-US" sz="12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s form market architectures to enable TSO-DSO integration and  enable participation of RES and DSM connected at distribution level in provision of ancillary services at transmission/wholesale level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Foundations for further analysis and comparison with EU strategy on future networks and development of market architectures and policy arrangements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EBB2-1CAB-43C9-89A7-319824C6C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new market models and strategies proposed in work on TSO-DSO coordination schemes and market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interactions between ICT  and new market and operational mode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outcomes of lesson learned from implementation of new models and tools carried out in national cases studies/pilo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228C-35CD-4B8B-9FFA-C4E2B25EC2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valuation of project outcomes in relation to current EU strategy towards further pow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e approaches proposed by SmarNet project against the present EC strategies related to future development of the power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view SmartNet approaches to TSO-DSO integration proposed by EU strategic initiatives and polic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how solutions and tools tested in WP4 and WP5 improve system operation and interaction between TSO and DSO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implication of new architectures for electricity market operations and ways to address possible issues or barriers to TSO-D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C2DB-0B81-4905-B5EA-7790454FF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865</TotalTime>
  <Application>LibreOffice/7.4.7.2$Linux_X86_64 LibreOffice_project/40$Build-2</Application>
  <AppVersion>15.0000</AppVersion>
  <Words>648</Words>
  <Paragraphs>98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wireless admin</cp:lastModifiedBy>
  <cp:lastPrinted>2016-04-07T08:06:41Z</cp:lastPrinted>
  <dcterms:modified xsi:type="dcterms:W3CDTF">2017-06-19T15:36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