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06EAC-228C-4E8B-917E-A410E07FD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36914-0CD8-4959-A1C8-D4B5E57643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B18C7E-AE38-487F-A8D3-FD1EA078BD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F84F-D4DF-4180-A3D8-78670E2EBA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EF1B-3CCB-4E49-98FD-FEB75EE8D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B956-1B8C-4CD8-8418-5D94DFFA7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75E2-D898-45FD-91A0-FA9F3C904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8EDF-18AB-4C3B-93A4-0276A9B2B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B29D-CDC4-421A-9545-14B1A6239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DB0D-3C92-484B-9955-78C7CAC5B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DE9D-2EE5-48F8-9129-BDDC1C5641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D62C-8D16-4AE7-B0E5-26E276601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C0E-36C1-4D9C-9A86-D343B6261E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9878-7A34-4D8A-A727-899AE9FC7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4CF7-4ABA-45A5-A27C-81AD6022E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6D7A-4F04-4DDD-B30F-423CB7784B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CF3F-9D14-45E7-B2A2-D385A9FD3D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61A2-BF40-4318-908F-E0ADB0BDE2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A3A2-84B7-4D4C-8878-6D8F13F170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56D5-E64A-4272-A8F0-060950D13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D927-4DA4-49E3-ACA3-055A9B0588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4987-8E45-4797-80FE-B9658C9FA0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6173-85E9-4DFF-9888-319650FC6D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9CDB-A65A-4A0A-A639-C9927917E3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3ED7-1661-404C-8EFC-6B92B483BD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9B2E-C25B-4C2A-ACBD-FCCBA290C0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5336-458E-4A41-9A39-AB0177EA00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1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B9148C-9E67-4206-85A7-20965EAAB1B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990B17-1898-4065-A28C-1DF10E6468C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martNet partner logos.png"/>
          <p:cNvPicPr/>
          <p:nvPr/>
        </p:nvPicPr>
        <p:blipFill>
          <a:blip r:embed="rId3"/>
          <a:stretch/>
        </p:blipFill>
        <p:spPr>
          <a:xfrm>
            <a:off x="1143360" y="1228320"/>
            <a:ext cx="6869520" cy="4862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accent1"/>
                </a:solidFill>
                <a:latin typeface="Calibri Light"/>
              </a:rPr>
              <a:t>Regulatory, planning and operation implications of TSO-DSO coordination for ancillary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r Ivana Kockar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University of Strathcly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46076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owerTech 2017, Manchester| 19 June 2017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-352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et of recommendations for regulatory arrangements to enable DSO/TSO integration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ich new operational arrangements should be introduced to ensure secur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improve or change market designs to enable provision of services that can help DSO/ 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Other policy recommendation to enable and entice all market participants as well as demand side response to enabl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replicate SmartNet concept on a large scale and which policies are need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D5C3-09C8-419D-9C03-BE588606D3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 Ivana Kock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44 (0)141 541 3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ana.Kockar@strath.ac.u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here does this policy work fit within the SmartNet projec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at will influence the work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General overview and background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ome particular details that we plan to address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does it fit with the existing EU regul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Policy recommenda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7FD-CDD3-47E6-8A53-DEDC964057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6"/>
          <p:cNvGrpSpPr/>
          <p:nvPr/>
        </p:nvGrpSpPr>
        <p:grpSpPr>
          <a:xfrm>
            <a:off x="567000" y="256680"/>
            <a:ext cx="7947000" cy="4209120"/>
            <a:chOff x="567000" y="256680"/>
            <a:chExt cx="7947000" cy="4209120"/>
          </a:xfrm>
        </p:grpSpPr>
        <p:sp>
          <p:nvSpPr>
            <p:cNvPr id="224" name="Rounded Rectangle 5"/>
            <p:cNvSpPr/>
            <p:nvPr/>
          </p:nvSpPr>
          <p:spPr>
            <a:xfrm>
              <a:off x="567000" y="59364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6"/>
            <p:cNvSpPr/>
            <p:nvPr/>
          </p:nvSpPr>
          <p:spPr>
            <a:xfrm>
              <a:off x="567000" y="242856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7"/>
            <p:cNvSpPr/>
            <p:nvPr/>
          </p:nvSpPr>
          <p:spPr>
            <a:xfrm>
              <a:off x="567000" y="151128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ed Rectangle 8"/>
            <p:cNvSpPr/>
            <p:nvPr/>
          </p:nvSpPr>
          <p:spPr>
            <a:xfrm>
              <a:off x="2944440" y="410760"/>
              <a:ext cx="1254240" cy="28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9"/>
            <p:cNvSpPr/>
            <p:nvPr/>
          </p:nvSpPr>
          <p:spPr>
            <a:xfrm>
              <a:off x="5212440" y="1265760"/>
              <a:ext cx="1201680" cy="23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10"/>
            <p:cNvSpPr/>
            <p:nvPr/>
          </p:nvSpPr>
          <p:spPr>
            <a:xfrm>
              <a:off x="7307280" y="2251800"/>
              <a:ext cx="1206720" cy="144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ight Arrow 11"/>
            <p:cNvSpPr/>
            <p:nvPr/>
          </p:nvSpPr>
          <p:spPr>
            <a:xfrm>
              <a:off x="1821240" y="8406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Right Arrow 14"/>
            <p:cNvSpPr/>
            <p:nvPr/>
          </p:nvSpPr>
          <p:spPr>
            <a:xfrm>
              <a:off x="4172760" y="2008080"/>
              <a:ext cx="1039320" cy="156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Right Arrow 15"/>
            <p:cNvSpPr/>
            <p:nvPr/>
          </p:nvSpPr>
          <p:spPr>
            <a:xfrm>
              <a:off x="6414840" y="2811240"/>
              <a:ext cx="8920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ight Arrow 16"/>
            <p:cNvSpPr/>
            <p:nvPr/>
          </p:nvSpPr>
          <p:spPr>
            <a:xfrm rot="5400000">
              <a:off x="7639560" y="3897360"/>
              <a:ext cx="5428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ight Arrow 17"/>
            <p:cNvSpPr/>
            <p:nvPr/>
          </p:nvSpPr>
          <p:spPr>
            <a:xfrm>
              <a:off x="1808280" y="17658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ight Arrow 18"/>
            <p:cNvSpPr/>
            <p:nvPr/>
          </p:nvSpPr>
          <p:spPr>
            <a:xfrm>
              <a:off x="1821240" y="267552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19"/>
            <p:cNvSpPr/>
            <p:nvPr/>
          </p:nvSpPr>
          <p:spPr>
            <a:xfrm>
              <a:off x="1719360" y="1234800"/>
              <a:ext cx="1313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rket mo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1"/>
            <p:cNvSpPr/>
            <p:nvPr/>
          </p:nvSpPr>
          <p:spPr>
            <a:xfrm>
              <a:off x="1829160" y="256680"/>
              <a:ext cx="1150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/D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2"/>
            <p:cNvSpPr/>
            <p:nvPr/>
          </p:nvSpPr>
          <p:spPr>
            <a:xfrm>
              <a:off x="1965960" y="2164680"/>
              <a:ext cx="723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3"/>
            <p:cNvSpPr/>
            <p:nvPr/>
          </p:nvSpPr>
          <p:spPr>
            <a:xfrm>
              <a:off x="4228920" y="1175400"/>
              <a:ext cx="965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ses i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4"/>
            <p:cNvSpPr/>
            <p:nvPr/>
          </p:nvSpPr>
          <p:spPr>
            <a:xfrm>
              <a:off x="6549120" y="2208240"/>
              <a:ext cx="623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lo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5"/>
            <p:cNvSpPr/>
            <p:nvPr/>
          </p:nvSpPr>
          <p:spPr>
            <a:xfrm>
              <a:off x="6584040" y="3827520"/>
              <a:ext cx="1182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8" descr=""/>
          <p:cNvPicPr/>
          <p:nvPr/>
        </p:nvPicPr>
        <p:blipFill>
          <a:blip r:embed="rId1"/>
          <a:srcRect l="0" t="6765" r="0" b="0"/>
          <a:stretch/>
        </p:blipFill>
        <p:spPr>
          <a:xfrm>
            <a:off x="935640" y="4824360"/>
            <a:ext cx="6616800" cy="17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CF01-0530-4806-9B82-55BF29C1D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initial points for the SmartGrid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– one of the top priorities in the EU for a long tim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ome of the directives initiating and shaping SmartGrid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newable Energy Directive in 2001 - sets national indicative targets for renewable energy production from individual member stat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Internal Market in Electricity Directive in 2003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mission Trading Scheme – considered as one of the pillars of Clean Energy launched in 2005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Renewable directive in 2009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More complete market opening and  unbundling of  TSO and DSO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78AF-406A-4633-B684-B73B48897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some of the latest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ovember 2016 – “Clean Energy For All Europeans” aka “Winter package”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imed at further completing the internal market for electricity and implementing the Energy Union (February 2015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ncludes different documents and proposal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a new power market design (including resource adequacy, and DSO and TSO service provis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promotion and integration of renewabl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energy efficiency and performa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institutional framework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329E-94DF-413A-9433-EEF3D7806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National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of the latest developments in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 from LCNF/NIC/NIA proj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network Association lead work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ransmission-Distribution Interface  workgroup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SO-DSO Project -  now ENA Open Networks Projec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13040" indent="-20232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how networks will collaboratively meet future challenges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G Grid: System Needs  and Product Strateg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Ongoing Research: Looking into provision of services from various technologi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</p:txBody>
      </p:sp>
      <p:pic>
        <p:nvPicPr>
          <p:cNvPr id="249" name="Picture 2" descr="TSO-DSO Cross Cutting Issues"/>
          <p:cNvPicPr/>
          <p:nvPr/>
        </p:nvPicPr>
        <p:blipFill>
          <a:blip r:embed="rId1"/>
          <a:srcRect l="-7418" t="-750" r="-325" b="58072"/>
          <a:stretch/>
        </p:blipFill>
        <p:spPr>
          <a:xfrm>
            <a:off x="2163600" y="3979080"/>
            <a:ext cx="4062960" cy="7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8724-45FD-4028-83D3-DDC14BB570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ion of system operation, arrangements for management and provision of ancillary/balancing services at distribution level to  enable  better  DER  integration  and  utilisatio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demand  participation  and  coordination  with  DG  availabilit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coordination of energy storage utilisation (both heat and electrical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241"/>
              </a:spcBef>
              <a:buNone/>
            </a:pPr>
            <a:endParaRPr b="0" lang="en-US" sz="12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s form market architectures to enable TSO-DSO integration and  enable participation of RES and DSM connected at distribution level in provision of ancillary services at transmission/wholesale level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Foundations for further analysis and comparison with EU strategy on future networks and development of market architectures and policy arrangements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5C29-09B5-4EC2-8618-1DFF244C5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new market models and strategies proposed in work on TSO-DSO coordination schemes and market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interactions between ICT  and new market and operational mode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outcomes of lesson learned from implementation of new models and tools carried out in national cases studies/pilo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5273-8049-402D-9692-55FFF53B7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valuation of project outcomes in relation to current EU strategy towards further pow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e approaches proposed by SmarNet project against the present EC strategies related to future development of the power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view SmartNet approaches to TSO-DSO integration proposed by EU strategic initiatives and polic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how solutions and tools tested in WP4 and WP5 improve system operation and interaction between TSO and DSO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implication of new architectures for electricity market operations and ways to address possible issues or barriers to TSO-D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6B03-01A6-44F6-83A3-D932B5786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865</TotalTime>
  <Application>LibreOffice/7.4.7.2$Linux_X86_64 LibreOffice_project/40$Build-2</Application>
  <AppVersion>15.0000</AppVersion>
  <Words>648</Words>
  <Paragraphs>98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wireless admin</cp:lastModifiedBy>
  <cp:lastPrinted>2016-04-07T08:06:41Z</cp:lastPrinted>
  <dcterms:modified xsi:type="dcterms:W3CDTF">2017-06-19T15:36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