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661A5-A3F8-43C6-9F7E-67648F88B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2CB6F1-1676-43B0-8E2C-83D405D087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ank you for you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w there is some time fo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5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0FDF9E-70E8-4ED3-9651-1B40CFF178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6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A89B6A-E5D4-4625-A47E-3D7F27C414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7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FC62F3-92E7-42D0-A0DA-F297087898F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8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DD2E4-5064-42E2-AD6C-8F76D708CD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9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E7AFF2-734E-4125-97BF-0F63F001A5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0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AFCB1C-6DB1-41D5-8E23-3E3A8AF65C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11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015A5-E667-4647-ABC4-9052BDECD6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12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BCA76-984B-49D0-ADC2-1143ECD89F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3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124470-B6FE-42F9-881B-050B82D80B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680" y="4716000"/>
            <a:ext cx="5437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4"/>
          </p:nvPr>
        </p:nvSpPr>
        <p:spPr>
          <a:xfrm>
            <a:off x="3850560" y="943020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145F62-C58C-48AA-85C9-7B66A1278E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1A5E-BC2C-4F49-B21C-B4550EBEEE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4C2D-3891-4C06-ADAE-E5485CC714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396D-B55C-4471-876F-3B9381954F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A543-D47D-450C-9374-50972BE5A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AF02-AF10-4ABC-B4A4-C82CDDA1F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FB8E-FF36-4EC6-A6E8-583211A6C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A99E-D696-4ED2-BBF4-293D09FF16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D0D9-DD0B-413A-867D-6DF9A20471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E190-E1DE-4D5A-B4BC-DA978CBD7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2E1A-FDFB-4CF0-BF5E-889CC5B77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37B4-85C4-4754-8233-6CD5382B1F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350F-9EE7-4DE7-9F0E-C4FB86F37D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78C4-EFB2-475B-A541-30C4D8620C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64BDD-9E5F-46D8-8C74-5C28BC16ED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7882-8276-462E-B9B4-535E691AA7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437A-57FB-401C-83F7-18F71BDF42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F95D-FC4B-4F4C-836E-8594F9C23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1739-0EB7-488B-AFEA-02A6B38F08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1CB7-9C4B-418A-A4CE-F80AF65BB6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84A6-2E30-4EF2-8186-CACC67945D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C40F-487A-4673-8676-04CCD5D85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4D6E-A2BE-4606-8400-D76F369C8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20FB-CE04-4A8D-B26A-79DA091A4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00E4-B5FF-4941-9B3D-45507810C6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0232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420160" y="32004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218448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0232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420160" y="4431600"/>
            <a:ext cx="15404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235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6080" y="44316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844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6080" y="3200400"/>
            <a:ext cx="23346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84480" y="4431600"/>
            <a:ext cx="4784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tretch/>
        </p:blipFill>
        <p:spPr>
          <a:xfrm>
            <a:off x="-588600" y="128880"/>
            <a:ext cx="10350000" cy="712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SmartNet-logo-horizontal.eps"/>
          <p:cNvPicPr/>
          <p:nvPr/>
        </p:nvPicPr>
        <p:blipFill>
          <a:blip r:embed="rId3"/>
          <a:stretch/>
        </p:blipFill>
        <p:spPr>
          <a:xfrm>
            <a:off x="4065480" y="13680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2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me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flag_yellow_eps.ps"/>
          <p:cNvPicPr/>
          <p:nvPr/>
        </p:nvPicPr>
        <p:blipFill>
          <a:blip r:embed="rId4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sp>
        <p:nvSpPr>
          <p:cNvPr id="4" name="TextBox 12"/>
          <p:cNvSpPr/>
          <p:nvPr/>
        </p:nvSpPr>
        <p:spPr>
          <a:xfrm>
            <a:off x="4582080" y="1310760"/>
            <a:ext cx="401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Smart TSO-DSO interaction schemes, market architectures and ICT Solutions for the integration of ancillary services from demand side management and distributed 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x-none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x-none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68360" y="41580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Drag picture to placeholder or click icon to add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29368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A55330-0C40-4745-86C8-7875A8944AB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6635520" y="158040"/>
            <a:ext cx="2337480" cy="603360"/>
          </a:xfrm>
          <a:prstGeom prst="rect">
            <a:avLst/>
          </a:prstGeom>
          <a:ln w="0">
            <a:noFill/>
          </a:ln>
        </p:spPr>
      </p:pic>
      <p:sp>
        <p:nvSpPr>
          <p:cNvPr id="87" name="Oval 3"/>
          <p:cNvSpPr/>
          <p:nvPr/>
        </p:nvSpPr>
        <p:spPr>
          <a:xfrm>
            <a:off x="8354880" y="6390720"/>
            <a:ext cx="340560" cy="34056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58ed5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558ed5"/>
              </a:solidFill>
              <a:latin typeface="Calibri"/>
            </a:endParaRPr>
          </a:p>
          <a:p>
            <a:pPr lvl="3" marL="16002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  <a:p>
            <a:pPr lvl="4" marL="2057400" indent="-228600">
              <a:lnSpc>
                <a:spcPct val="130000"/>
              </a:lnSpc>
              <a:spcBef>
                <a:spcPts val="360"/>
              </a:spcBef>
              <a:buClr>
                <a:srgbClr val="558ed5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2"/>
          </p:nvPr>
        </p:nvSpPr>
        <p:spPr>
          <a:xfrm>
            <a:off x="8304120" y="6372000"/>
            <a:ext cx="456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EB747E-54DD-404B-A333-ACEDFFD4159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371600" y="514044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3d72c4"/>
                </a:solidFill>
                <a:uFillTx/>
                <a:latin typeface="Calibri"/>
              </a:rPr>
              <a:t>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smartnet logos.png"/>
          <p:cNvPicPr/>
          <p:nvPr/>
        </p:nvPicPr>
        <p:blipFill>
          <a:blip r:embed="rId3"/>
          <a:stretch/>
        </p:blipFill>
        <p:spPr>
          <a:xfrm>
            <a:off x="1562040" y="2349360"/>
            <a:ext cx="6016320" cy="2142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950840" y="1981080"/>
            <a:ext cx="5303160" cy="516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3"/>
          <p:cNvSpPr/>
          <p:nvPr/>
        </p:nvSpPr>
        <p:spPr>
          <a:xfrm>
            <a:off x="1859400" y="2865240"/>
            <a:ext cx="5394600" cy="3017160"/>
          </a:xfrm>
          <a:prstGeom prst="roundRect">
            <a:avLst>
              <a:gd name="adj" fmla="val 5814"/>
            </a:avLst>
          </a:prstGeom>
          <a:solidFill>
            <a:schemeClr val="lt1"/>
          </a:solidFill>
          <a:ln>
            <a:solidFill>
              <a:srgbClr val="6076b4"/>
            </a:solidFill>
            <a:round/>
          </a:ln>
          <a:effectLst>
            <a:outerShdw algn="tl" blurRad="69840" dir="2700000" dist="37674" rotWithShape="0">
              <a:schemeClr val="accent3">
                <a:lumMod val="50000"/>
                <a:alpha val="14000"/>
              </a:schemeClr>
            </a:outerShdw>
          </a:effectLst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2184480" y="3200400"/>
            <a:ext cx="4784400" cy="23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75228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4f81bd"/>
                </a:solidFill>
                <a:latin typeface="Calibri Light"/>
              </a:rPr>
              <a:t>Communication and ICT requirements for allowing system services from distribution gr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eppo Horsmanheimo, Principal Scientist, VT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2976840"/>
            <a:ext cx="730368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IEEE PES PowerTech Manchester 2017</a:t>
            </a:r>
            <a:br>
              <a:rPr sz="1600"/>
            </a:b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SS03: Ancillary services from distribution networks | 19.06.2017</a:t>
            </a:r>
            <a:endParaRPr b="0" lang="en-US" sz="1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072520" y="3231360"/>
            <a:ext cx="4998240" cy="22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po Horsmanhei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1e3963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ffiliatio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T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ICAL RESEARCH CENTRE OF FINLAND LT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hon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358 40 5423 5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ppo.horsmanheimo@vtt.f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2" descr="Kuvahaun tulos haulle VTT logo"/>
          <p:cNvPicPr/>
          <p:nvPr/>
        </p:nvPicPr>
        <p:blipFill>
          <a:blip r:embed="rId1"/>
          <a:stretch/>
        </p:blipFill>
        <p:spPr>
          <a:xfrm>
            <a:off x="5144040" y="4004280"/>
            <a:ext cx="1836000" cy="6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Backgrou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oday, resources connected to the distribution grid are providing limited ancillary service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 the future, smart grid offers new ancillary services facilitating wider range of market participants such as renewable energy sources, aggregators, consumers, and new types of stakeholder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Especially, large-scale deployment of distributed generation and storage are boosting the utilization of automation and ICT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foreseen bidirectional energy and information flows make the requirements for ICT more versatile and more demanding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16B6-17D5-43A4-8458-E5621D745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halleng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1356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 order to fully exploit the potential offered by future ICT technologies, we need to be able to identify the actual requirements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challenge is that it will take some time before new TSO-DSO coordination schemes are realized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eanwhile, ICT systems and communication technologies evolve even faster making it more difficult to choose the suitable communication technologies for different parts of the energy system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FEF6-EBE1-4763-AA6F-B08698565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New technologies with new opportunit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Isosceles Triangle 8"/>
          <p:cNvSpPr/>
          <p:nvPr/>
        </p:nvSpPr>
        <p:spPr>
          <a:xfrm>
            <a:off x="1475640" y="1661400"/>
            <a:ext cx="6192360" cy="3960000"/>
          </a:xfrm>
          <a:prstGeom prst="triangle">
            <a:avLst>
              <a:gd name="adj" fmla="val 50000"/>
            </a:avLst>
          </a:prstGeom>
          <a:solidFill>
            <a:schemeClr val="bg2">
              <a:lumMod val="20000"/>
              <a:lumOff val="80000"/>
            </a:schemeClr>
          </a:solidFill>
          <a:ln w="952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3254400" y="1569960"/>
            <a:ext cx="263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Media content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745560" y="5654160"/>
            <a:ext cx="2570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Massive Machine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Typ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5649480" y="5649120"/>
            <a:ext cx="3069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Ultra-Reliable Low Latency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Berlin Sans FB Demi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7212600" y="3674880"/>
            <a:ext cx="1741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ultra-low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5820120" y="2008080"/>
            <a:ext cx="1784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high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low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R/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blic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143960" y="3826800"/>
            <a:ext cx="972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4800" spc="-1" strike="noStrike">
                <a:solidFill>
                  <a:srgbClr val="ff0000"/>
                </a:solidFill>
                <a:latin typeface="Berlin Sans FB Demi"/>
              </a:rPr>
              <a:t>5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9"/>
          <p:cNvGrpSpPr/>
          <p:nvPr/>
        </p:nvGrpSpPr>
        <p:grpSpPr>
          <a:xfrm>
            <a:off x="5616000" y="3915360"/>
            <a:ext cx="720000" cy="719640"/>
            <a:chOff x="5616000" y="3915360"/>
            <a:chExt cx="720000" cy="719640"/>
          </a:xfrm>
        </p:grpSpPr>
        <p:sp>
          <p:nvSpPr>
            <p:cNvPr id="233" name="Rounded Rectangle 19"/>
            <p:cNvSpPr/>
            <p:nvPr/>
          </p:nvSpPr>
          <p:spPr>
            <a:xfrm>
              <a:off x="5616000" y="3915360"/>
              <a:ext cx="683280" cy="7027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21"/>
            <p:cNvGrpSpPr/>
            <p:nvPr/>
          </p:nvGrpSpPr>
          <p:grpSpPr>
            <a:xfrm>
              <a:off x="5628960" y="3915360"/>
              <a:ext cx="707040" cy="719640"/>
              <a:chOff x="5628960" y="3915360"/>
              <a:chExt cx="707040" cy="719640"/>
            </a:xfrm>
          </p:grpSpPr>
          <p:pic>
            <p:nvPicPr>
              <p:cNvPr id="235" name="Picture 2" descr="C:\Users\mmmiia\AppData\Local\Microsoft\Windows\Temporary Internet Files\Content.IE5\GY0V3XKN\Crane_Hook_-_Noun_project_4635.svg[1].png"/>
              <p:cNvPicPr/>
              <p:nvPr/>
            </p:nvPicPr>
            <p:blipFill>
              <a:blip r:embed="rId1"/>
              <a:stretch/>
            </p:blipFill>
            <p:spPr>
              <a:xfrm>
                <a:off x="5681520" y="3915360"/>
                <a:ext cx="654480" cy="6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Rounded Rectangle 19"/>
              <p:cNvSpPr/>
              <p:nvPr/>
            </p:nvSpPr>
            <p:spPr>
              <a:xfrm>
                <a:off x="5628960" y="3932280"/>
                <a:ext cx="683280" cy="70272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4"/>
          <p:cNvGrpSpPr/>
          <p:nvPr/>
        </p:nvGrpSpPr>
        <p:grpSpPr>
          <a:xfrm>
            <a:off x="5380560" y="4678200"/>
            <a:ext cx="719640" cy="727920"/>
            <a:chOff x="5380560" y="4678200"/>
            <a:chExt cx="719640" cy="727920"/>
          </a:xfrm>
        </p:grpSpPr>
        <p:sp>
          <p:nvSpPr>
            <p:cNvPr id="238" name="Rounded Rectangle 19"/>
            <p:cNvSpPr/>
            <p:nvPr/>
          </p:nvSpPr>
          <p:spPr>
            <a:xfrm>
              <a:off x="5380560" y="4678200"/>
              <a:ext cx="719640" cy="71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3" descr="C:\Users\mmmiia\AppData\Local\Microsoft\Windows\Temporary Internet Files\Content.IE5\2XN1GBUK\ASm92[1].png"/>
            <p:cNvPicPr/>
            <p:nvPr/>
          </p:nvPicPr>
          <p:blipFill>
            <a:blip r:embed="rId2"/>
            <a:stretch/>
          </p:blipFill>
          <p:spPr>
            <a:xfrm>
              <a:off x="5501520" y="4799520"/>
              <a:ext cx="477360" cy="4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Rounded Rectangle 19"/>
            <p:cNvSpPr/>
            <p:nvPr/>
          </p:nvSpPr>
          <p:spPr>
            <a:xfrm>
              <a:off x="5380560" y="4686480"/>
              <a:ext cx="719640" cy="71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8"/>
          <p:cNvGrpSpPr/>
          <p:nvPr/>
        </p:nvGrpSpPr>
        <p:grpSpPr>
          <a:xfrm>
            <a:off x="6152400" y="4534920"/>
            <a:ext cx="1079640" cy="1079640"/>
            <a:chOff x="6152400" y="4534920"/>
            <a:chExt cx="1079640" cy="1079640"/>
          </a:xfrm>
        </p:grpSpPr>
        <p:sp>
          <p:nvSpPr>
            <p:cNvPr id="242" name="Rounded Rectangle 19"/>
            <p:cNvSpPr/>
            <p:nvPr/>
          </p:nvSpPr>
          <p:spPr>
            <a:xfrm>
              <a:off x="6152400" y="4534920"/>
              <a:ext cx="1079640" cy="107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ounded Rectangle 19"/>
            <p:cNvSpPr/>
            <p:nvPr/>
          </p:nvSpPr>
          <p:spPr>
            <a:xfrm>
              <a:off x="6152400" y="4534920"/>
              <a:ext cx="1079640" cy="107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26" descr=""/>
            <p:cNvPicPr/>
            <p:nvPr/>
          </p:nvPicPr>
          <p:blipFill>
            <a:blip r:embed="rId3"/>
            <a:stretch/>
          </p:blipFill>
          <p:spPr>
            <a:xfrm rot="19399200">
              <a:off x="6295680" y="4808160"/>
              <a:ext cx="79272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9"/>
          <p:cNvGrpSpPr/>
          <p:nvPr/>
        </p:nvGrpSpPr>
        <p:grpSpPr>
          <a:xfrm>
            <a:off x="3544200" y="2821320"/>
            <a:ext cx="719640" cy="727560"/>
            <a:chOff x="3544200" y="2821320"/>
            <a:chExt cx="719640" cy="727560"/>
          </a:xfrm>
        </p:grpSpPr>
        <p:grpSp>
          <p:nvGrpSpPr>
            <p:cNvPr id="246" name="Group 10"/>
            <p:cNvGrpSpPr/>
            <p:nvPr/>
          </p:nvGrpSpPr>
          <p:grpSpPr>
            <a:xfrm>
              <a:off x="3544200" y="2821320"/>
              <a:ext cx="719640" cy="727560"/>
              <a:chOff x="3544200" y="2821320"/>
              <a:chExt cx="719640" cy="727560"/>
            </a:xfrm>
          </p:grpSpPr>
          <p:sp>
            <p:nvSpPr>
              <p:cNvPr id="247" name="Rounded Rectangle 19"/>
              <p:cNvSpPr/>
              <p:nvPr/>
            </p:nvSpPr>
            <p:spPr>
              <a:xfrm>
                <a:off x="3544200" y="2821320"/>
                <a:ext cx="719640" cy="719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ounded Rectangle 19"/>
              <p:cNvSpPr/>
              <p:nvPr/>
            </p:nvSpPr>
            <p:spPr>
              <a:xfrm>
                <a:off x="3544200" y="2829240"/>
                <a:ext cx="719640" cy="71964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9" name="Picture 10" descr=""/>
            <p:cNvPicPr/>
            <p:nvPr/>
          </p:nvPicPr>
          <p:blipFill>
            <a:blip r:embed="rId4"/>
            <a:stretch/>
          </p:blipFill>
          <p:spPr>
            <a:xfrm>
              <a:off x="3687480" y="2978280"/>
              <a:ext cx="463680" cy="4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32"/>
          <p:cNvGrpSpPr/>
          <p:nvPr/>
        </p:nvGrpSpPr>
        <p:grpSpPr>
          <a:xfrm>
            <a:off x="4996080" y="2848320"/>
            <a:ext cx="719640" cy="727560"/>
            <a:chOff x="4996080" y="2848320"/>
            <a:chExt cx="719640" cy="727560"/>
          </a:xfrm>
        </p:grpSpPr>
        <p:grpSp>
          <p:nvGrpSpPr>
            <p:cNvPr id="251" name="Group 33"/>
            <p:cNvGrpSpPr/>
            <p:nvPr/>
          </p:nvGrpSpPr>
          <p:grpSpPr>
            <a:xfrm>
              <a:off x="4996080" y="2848320"/>
              <a:ext cx="719640" cy="727560"/>
              <a:chOff x="4996080" y="2848320"/>
              <a:chExt cx="719640" cy="727560"/>
            </a:xfrm>
          </p:grpSpPr>
          <p:sp>
            <p:nvSpPr>
              <p:cNvPr id="252" name="Rounded Rectangle 19"/>
              <p:cNvSpPr/>
              <p:nvPr/>
            </p:nvSpPr>
            <p:spPr>
              <a:xfrm>
                <a:off x="4996080" y="2848320"/>
                <a:ext cx="719640" cy="719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ounded Rectangle 19"/>
              <p:cNvSpPr/>
              <p:nvPr/>
            </p:nvSpPr>
            <p:spPr>
              <a:xfrm>
                <a:off x="4996080" y="2856240"/>
                <a:ext cx="719640" cy="71964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4" name="Picture 2" descr="C:\Users\mmmiia\AppData\Local\Microsoft\Windows\Temporary Internet Files\Content.IE5\Q54TQB7T\500px-BSicon_TRAIN3.svg[1].png"/>
            <p:cNvPicPr/>
            <p:nvPr/>
          </p:nvPicPr>
          <p:blipFill>
            <a:blip r:embed="rId5"/>
            <a:stretch/>
          </p:blipFill>
          <p:spPr>
            <a:xfrm>
              <a:off x="5093280" y="2962080"/>
              <a:ext cx="50292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7"/>
          <p:cNvGrpSpPr/>
          <p:nvPr/>
        </p:nvGrpSpPr>
        <p:grpSpPr>
          <a:xfrm>
            <a:off x="4089960" y="2011320"/>
            <a:ext cx="1079640" cy="1079640"/>
            <a:chOff x="4089960" y="2011320"/>
            <a:chExt cx="1079640" cy="1079640"/>
          </a:xfrm>
        </p:grpSpPr>
        <p:sp>
          <p:nvSpPr>
            <p:cNvPr id="256" name="Rounded Rectangle 19"/>
            <p:cNvSpPr/>
            <p:nvPr/>
          </p:nvSpPr>
          <p:spPr>
            <a:xfrm>
              <a:off x="4089960" y="2018160"/>
              <a:ext cx="1079640" cy="1056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8" descr="C:\Users\mmmiia\AppData\Local\Microsoft\Windows\Temporary Internet Files\Content.IE5\2HVTR9S4\RadioTower[1].jpg"/>
            <p:cNvPicPr/>
            <p:nvPr/>
          </p:nvPicPr>
          <p:blipFill>
            <a:blip r:embed="rId6"/>
            <a:stretch/>
          </p:blipFill>
          <p:spPr>
            <a:xfrm>
              <a:off x="4507920" y="2060280"/>
              <a:ext cx="65952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C:\Users\mmmiia\AppData\Local\Microsoft\Windows\Temporary Internet Files\Content.IE5\G7RYPLP0\13970794216335[1].png"/>
            <p:cNvPicPr/>
            <p:nvPr/>
          </p:nvPicPr>
          <p:blipFill>
            <a:blip r:embed="rId7"/>
            <a:srcRect l="0" t="0" r="0" b="27114"/>
            <a:stretch/>
          </p:blipFill>
          <p:spPr>
            <a:xfrm>
              <a:off x="4089960" y="2203920"/>
              <a:ext cx="880200" cy="8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ounded Rectangle 19"/>
            <p:cNvSpPr/>
            <p:nvPr/>
          </p:nvSpPr>
          <p:spPr>
            <a:xfrm>
              <a:off x="4089960" y="2011320"/>
              <a:ext cx="1079640" cy="10562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3"/>
          <p:cNvGrpSpPr/>
          <p:nvPr/>
        </p:nvGrpSpPr>
        <p:grpSpPr>
          <a:xfrm>
            <a:off x="3004560" y="4658040"/>
            <a:ext cx="874800" cy="852120"/>
            <a:chOff x="3004560" y="4658040"/>
            <a:chExt cx="874800" cy="852120"/>
          </a:xfrm>
        </p:grpSpPr>
        <p:sp>
          <p:nvSpPr>
            <p:cNvPr id="261" name="Rounded Rectangle 19"/>
            <p:cNvSpPr/>
            <p:nvPr/>
          </p:nvSpPr>
          <p:spPr>
            <a:xfrm>
              <a:off x="3043080" y="4732920"/>
              <a:ext cx="719640" cy="7196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5"/>
            <p:cNvGrpSpPr/>
            <p:nvPr/>
          </p:nvGrpSpPr>
          <p:grpSpPr>
            <a:xfrm>
              <a:off x="3004560" y="4854600"/>
              <a:ext cx="618120" cy="491760"/>
              <a:chOff x="3004560" y="4854600"/>
              <a:chExt cx="618120" cy="491760"/>
            </a:xfrm>
          </p:grpSpPr>
          <p:sp>
            <p:nvSpPr>
              <p:cNvPr id="263" name="Rectangle 60"/>
              <p:cNvSpPr/>
              <p:nvPr/>
            </p:nvSpPr>
            <p:spPr>
              <a:xfrm>
                <a:off x="3004560" y="5065560"/>
                <a:ext cx="284400" cy="280800"/>
              </a:xfrm>
              <a:prstGeom prst="rect">
                <a:avLst/>
              </a:prstGeom>
              <a:blipFill rotWithShape="0">
                <a:blip r:embed="rId8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61"/>
              <p:cNvSpPr/>
              <p:nvPr/>
            </p:nvSpPr>
            <p:spPr>
              <a:xfrm>
                <a:off x="3188520" y="5039640"/>
                <a:ext cx="434160" cy="2797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62"/>
              <p:cNvSpPr/>
              <p:nvPr/>
            </p:nvSpPr>
            <p:spPr>
              <a:xfrm>
                <a:off x="3087360" y="4854600"/>
                <a:ext cx="434160" cy="279720"/>
              </a:xfrm>
              <a:prstGeom prst="rect">
                <a:avLst/>
              </a:prstGeom>
              <a:blipFill rotWithShape="0">
                <a:blip r:embed="rId10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Straight Connector 63"/>
              <p:cNvCxnSpPr/>
              <p:nvPr/>
            </p:nvCxnSpPr>
            <p:spPr>
              <a:xfrm>
                <a:off x="3134520" y="508644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267" name="Group 46"/>
            <p:cNvGrpSpPr/>
            <p:nvPr/>
          </p:nvGrpSpPr>
          <p:grpSpPr>
            <a:xfrm>
              <a:off x="3261240" y="4946400"/>
              <a:ext cx="618120" cy="491760"/>
              <a:chOff x="3261240" y="4946400"/>
              <a:chExt cx="618120" cy="491760"/>
            </a:xfrm>
          </p:grpSpPr>
          <p:sp>
            <p:nvSpPr>
              <p:cNvPr id="268" name="Rectangle 56"/>
              <p:cNvSpPr/>
              <p:nvPr/>
            </p:nvSpPr>
            <p:spPr>
              <a:xfrm>
                <a:off x="3261240" y="5157360"/>
                <a:ext cx="284400" cy="280800"/>
              </a:xfrm>
              <a:prstGeom prst="rect">
                <a:avLst/>
              </a:prstGeom>
              <a:blipFill rotWithShape="0">
                <a:blip r:embed="rId11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57"/>
              <p:cNvSpPr/>
              <p:nvPr/>
            </p:nvSpPr>
            <p:spPr>
              <a:xfrm>
                <a:off x="3445200" y="5131080"/>
                <a:ext cx="434160" cy="27972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58"/>
              <p:cNvSpPr/>
              <p:nvPr/>
            </p:nvSpPr>
            <p:spPr>
              <a:xfrm>
                <a:off x="3344040" y="4946400"/>
                <a:ext cx="434160" cy="279720"/>
              </a:xfrm>
              <a:prstGeom prst="rect">
                <a:avLst/>
              </a:prstGeom>
              <a:blipFill rotWithShape="0">
                <a:blip r:embed="rId13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1" name="Straight Connector 59"/>
              <p:cNvCxnSpPr/>
              <p:nvPr/>
            </p:nvCxnSpPr>
            <p:spPr>
              <a:xfrm>
                <a:off x="3391200" y="517788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272" name="Group 47"/>
            <p:cNvGrpSpPr/>
            <p:nvPr/>
          </p:nvGrpSpPr>
          <p:grpSpPr>
            <a:xfrm>
              <a:off x="3130200" y="4673880"/>
              <a:ext cx="618120" cy="491760"/>
              <a:chOff x="3130200" y="4673880"/>
              <a:chExt cx="618120" cy="491760"/>
            </a:xfrm>
          </p:grpSpPr>
          <p:sp>
            <p:nvSpPr>
              <p:cNvPr id="273" name="Rectangle 52"/>
              <p:cNvSpPr/>
              <p:nvPr/>
            </p:nvSpPr>
            <p:spPr>
              <a:xfrm>
                <a:off x="3130200" y="4884840"/>
                <a:ext cx="284400" cy="280800"/>
              </a:xfrm>
              <a:prstGeom prst="rect">
                <a:avLst/>
              </a:prstGeom>
              <a:blipFill rotWithShape="0">
                <a:blip r:embed="rId14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LeftDown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>
                <a:off x="3314160" y="4858560"/>
                <a:ext cx="434160" cy="27972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Right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4"/>
              <p:cNvSpPr/>
              <p:nvPr/>
            </p:nvSpPr>
            <p:spPr>
              <a:xfrm>
                <a:off x="3213000" y="4673880"/>
                <a:ext cx="434160" cy="279720"/>
              </a:xfrm>
              <a:prstGeom prst="rect">
                <a:avLst/>
              </a:prstGeom>
              <a:blipFill rotWithShape="0">
                <a:blip r:embed="rId16"/>
                <a:srcRect/>
                <a:stretch/>
              </a:blipFill>
              <a:ln w="19050">
                <a:solidFill>
                  <a:srgbClr val="000000"/>
                </a:solidFill>
                <a:round/>
              </a:ln>
              <a:scene3d>
                <a:camera prst="isometricTopUp"/>
                <a:lightRig dir="t" rig="threePt"/>
              </a:scene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6" name="Straight Connector 55"/>
              <p:cNvCxnSpPr/>
              <p:nvPr/>
            </p:nvCxnSpPr>
            <p:spPr>
              <a:xfrm>
                <a:off x="3260160" y="4905360"/>
                <a:ext cx="360" cy="23076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</a:ln>
            </p:spPr>
          </p:cxnSp>
        </p:grpSp>
        <p:sp>
          <p:nvSpPr>
            <p:cNvPr id="277" name="Rounded Rectangle 19"/>
            <p:cNvSpPr/>
            <p:nvPr/>
          </p:nvSpPr>
          <p:spPr>
            <a:xfrm>
              <a:off x="3043080" y="4740840"/>
              <a:ext cx="719640" cy="71964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3045600" y="4658040"/>
              <a:ext cx="719640" cy="71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0"/>
            <p:cNvSpPr/>
            <p:nvPr/>
          </p:nvSpPr>
          <p:spPr>
            <a:xfrm rot="16200000">
              <a:off x="3452040" y="5071320"/>
              <a:ext cx="719640" cy="71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1"/>
            <p:cNvSpPr/>
            <p:nvPr/>
          </p:nvSpPr>
          <p:spPr>
            <a:xfrm>
              <a:off x="3043080" y="5474520"/>
              <a:ext cx="719640" cy="3564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4"/>
          <p:cNvGrpSpPr/>
          <p:nvPr/>
        </p:nvGrpSpPr>
        <p:grpSpPr>
          <a:xfrm>
            <a:off x="2613960" y="3947760"/>
            <a:ext cx="719640" cy="727560"/>
            <a:chOff x="2613960" y="3947760"/>
            <a:chExt cx="719640" cy="727560"/>
          </a:xfrm>
        </p:grpSpPr>
        <p:grpSp>
          <p:nvGrpSpPr>
            <p:cNvPr id="282" name="Group 65"/>
            <p:cNvGrpSpPr/>
            <p:nvPr/>
          </p:nvGrpSpPr>
          <p:grpSpPr>
            <a:xfrm>
              <a:off x="2613960" y="3947760"/>
              <a:ext cx="719640" cy="727560"/>
              <a:chOff x="2613960" y="3947760"/>
              <a:chExt cx="719640" cy="727560"/>
            </a:xfrm>
          </p:grpSpPr>
          <p:grpSp>
            <p:nvGrpSpPr>
              <p:cNvPr id="283" name="Group 67"/>
              <p:cNvGrpSpPr/>
              <p:nvPr/>
            </p:nvGrpSpPr>
            <p:grpSpPr>
              <a:xfrm>
                <a:off x="2613960" y="3947760"/>
                <a:ext cx="719640" cy="727560"/>
                <a:chOff x="2613960" y="3947760"/>
                <a:chExt cx="719640" cy="727560"/>
              </a:xfrm>
            </p:grpSpPr>
            <p:sp>
              <p:nvSpPr>
                <p:cNvPr id="284" name="Rounded Rectangle 19"/>
                <p:cNvSpPr/>
                <p:nvPr/>
              </p:nvSpPr>
              <p:spPr>
                <a:xfrm>
                  <a:off x="2613960" y="3947760"/>
                  <a:ext cx="719640" cy="71964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ounded Rectangle 19"/>
                <p:cNvSpPr/>
                <p:nvPr/>
              </p:nvSpPr>
              <p:spPr>
                <a:xfrm>
                  <a:off x="2613960" y="3955680"/>
                  <a:ext cx="719640" cy="719640"/>
                </a:xfrm>
                <a:prstGeom prst="roundRect">
                  <a:avLst>
                    <a:gd name="adj" fmla="val 16667"/>
                  </a:avLst>
                </a:prstGeom>
                <a:noFill/>
                <a:ln w="28575">
                  <a:solidFill>
                    <a:srgbClr val="1f497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4" descr="C:\Users\mmmiia\AppData\Local\Microsoft\Windows\Temporary Internet Files\Content.IE5\LLN3GDQE\lg_g_watch_zpsff91176c[1].png"/>
              <p:cNvPicPr/>
              <p:nvPr/>
            </p:nvPicPr>
            <p:blipFill>
              <a:blip r:embed="rId17"/>
              <a:stretch/>
            </p:blipFill>
            <p:spPr>
              <a:xfrm>
                <a:off x="2707560" y="4065120"/>
                <a:ext cx="52452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Rounded Rectangle 89"/>
              <p:cNvSpPr/>
              <p:nvPr/>
            </p:nvSpPr>
            <p:spPr>
              <a:xfrm rot="18272400">
                <a:off x="2854080" y="4254120"/>
                <a:ext cx="323640" cy="5364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ounded Rectangle 90"/>
              <p:cNvSpPr/>
              <p:nvPr/>
            </p:nvSpPr>
            <p:spPr>
              <a:xfrm rot="2298000">
                <a:off x="2841840" y="4083840"/>
                <a:ext cx="137880" cy="265680"/>
              </a:xfrm>
              <a:prstGeom prst="roundRect">
                <a:avLst>
                  <a:gd name="adj" fmla="val 16667"/>
                </a:avLst>
              </a:prstGeom>
              <a:solidFill>
                <a:schemeClr val="tx1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ounded Rectangle 86"/>
            <p:cNvSpPr/>
            <p:nvPr/>
          </p:nvSpPr>
          <p:spPr>
            <a:xfrm rot="1333200">
              <a:off x="2764440" y="4304520"/>
              <a:ext cx="133920" cy="4536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GB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73"/>
          <p:cNvGrpSpPr/>
          <p:nvPr/>
        </p:nvGrpSpPr>
        <p:grpSpPr>
          <a:xfrm>
            <a:off x="1911600" y="4531680"/>
            <a:ext cx="1079640" cy="1079640"/>
            <a:chOff x="1911600" y="4531680"/>
            <a:chExt cx="1079640" cy="1079640"/>
          </a:xfrm>
        </p:grpSpPr>
        <p:grpSp>
          <p:nvGrpSpPr>
            <p:cNvPr id="291" name="Group 74"/>
            <p:cNvGrpSpPr/>
            <p:nvPr/>
          </p:nvGrpSpPr>
          <p:grpSpPr>
            <a:xfrm>
              <a:off x="1911600" y="4531680"/>
              <a:ext cx="1079640" cy="1079640"/>
              <a:chOff x="1911600" y="4531680"/>
              <a:chExt cx="1079640" cy="1079640"/>
            </a:xfrm>
          </p:grpSpPr>
          <p:sp>
            <p:nvSpPr>
              <p:cNvPr id="292" name="Rounded Rectangle 19"/>
              <p:cNvSpPr/>
              <p:nvPr/>
            </p:nvSpPr>
            <p:spPr>
              <a:xfrm>
                <a:off x="1911600" y="4538520"/>
                <a:ext cx="1079640" cy="10728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ounded Rectangle 19"/>
              <p:cNvSpPr/>
              <p:nvPr/>
            </p:nvSpPr>
            <p:spPr>
              <a:xfrm>
                <a:off x="1911600" y="4531680"/>
                <a:ext cx="1079640" cy="107280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1f497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5"/>
            <p:cNvGrpSpPr/>
            <p:nvPr/>
          </p:nvGrpSpPr>
          <p:grpSpPr>
            <a:xfrm>
              <a:off x="2035440" y="4596120"/>
              <a:ext cx="832320" cy="943920"/>
              <a:chOff x="2035440" y="4596120"/>
              <a:chExt cx="832320" cy="943920"/>
            </a:xfrm>
          </p:grpSpPr>
          <p:sp>
            <p:nvSpPr>
              <p:cNvPr id="295" name="Oval 76"/>
              <p:cNvSpPr/>
              <p:nvPr/>
            </p:nvSpPr>
            <p:spPr>
              <a:xfrm>
                <a:off x="2035440" y="4638600"/>
                <a:ext cx="820440" cy="8154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77"/>
              <p:cNvSpPr/>
              <p:nvPr/>
            </p:nvSpPr>
            <p:spPr>
              <a:xfrm>
                <a:off x="2100240" y="4703040"/>
                <a:ext cx="690840" cy="6865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78"/>
              <p:cNvSpPr/>
              <p:nvPr/>
            </p:nvSpPr>
            <p:spPr>
              <a:xfrm>
                <a:off x="2165040" y="4767480"/>
                <a:ext cx="561240" cy="55764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79"/>
              <p:cNvSpPr/>
              <p:nvPr/>
            </p:nvSpPr>
            <p:spPr>
              <a:xfrm>
                <a:off x="2251440" y="4853520"/>
                <a:ext cx="388440" cy="38592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Isosceles Triangle 80"/>
              <p:cNvSpPr/>
              <p:nvPr/>
            </p:nvSpPr>
            <p:spPr>
              <a:xfrm>
                <a:off x="2047320" y="5110920"/>
                <a:ext cx="755640" cy="4291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Isosceles Triangle 81"/>
              <p:cNvSpPr/>
              <p:nvPr/>
            </p:nvSpPr>
            <p:spPr>
              <a:xfrm flipV="1">
                <a:off x="2112120" y="4596120"/>
                <a:ext cx="755640" cy="4291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82"/>
              <p:cNvSpPr/>
              <p:nvPr/>
            </p:nvSpPr>
            <p:spPr>
              <a:xfrm>
                <a:off x="2337840" y="4939920"/>
                <a:ext cx="215640" cy="21420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GB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Box 85"/>
          <p:cNvSpPr/>
          <p:nvPr/>
        </p:nvSpPr>
        <p:spPr>
          <a:xfrm>
            <a:off x="201960" y="3300120"/>
            <a:ext cx="2392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data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wear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high device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1800" spc="-1" strike="noStrike">
                <a:solidFill>
                  <a:srgbClr val="0070c0"/>
                </a:solidFill>
                <a:latin typeface="Calibri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5ADF-9CF1-4948-99FA-03431DC4A2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Approach to capture ICT requirements in the SmartNet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CT requirements were captured and prioritized in top-down and bottom-up manners.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ordination schemes and service use cases were analyzed for creating business and function layers (top-down). 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840" indent="-30384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formation exchanges between system components were studied for creating component, communication, and information layers (bottom-up).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he study of new ICT technologies included: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obile networks including 5G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Wireless sensor network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Low-power wide area networks (licensed and unlicensed)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entralized and distributed service architecture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Data hub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48480" indent="-348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Blockchain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A7E9-CAFA-44C0-9B0E-7F43A7698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Requirements to consid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077200"/>
            <a:ext cx="40381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mmunication technology covering backbone and access network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Latency and security aspec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Bandwidth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Coverage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cala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Ownership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Terminal dens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Interface flexi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OPEX and CAPEX cost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Market characteristic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Reliability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Security (integrity, availability, confidentiality, authentication, non-repudiation)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  <a:p>
            <a:pPr marL="303480" indent="-303480">
              <a:lnSpc>
                <a:spcPct val="13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1f497d"/>
                </a:solidFill>
                <a:latin typeface="Corbel"/>
              </a:rPr>
              <a:t>Data and communication protocols</a:t>
            </a:r>
            <a:endParaRPr b="0" lang="en-US" sz="20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10240" y="2077200"/>
            <a:ext cx="32572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Classification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Network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Security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Latency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Data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Technology related requirement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</p:txBody>
      </p:sp>
      <p:sp>
        <p:nvSpPr>
          <p:cNvPr id="309" name="Right Brace 5"/>
          <p:cNvSpPr/>
          <p:nvPr/>
        </p:nvSpPr>
        <p:spPr>
          <a:xfrm>
            <a:off x="4600440" y="2077200"/>
            <a:ext cx="790200" cy="415440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F0CB-0844-4D69-9B8F-0EDBE72B2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Design and analysis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Content Placeholder 88" descr=""/>
          <p:cNvPicPr/>
          <p:nvPr/>
        </p:nvPicPr>
        <p:blipFill>
          <a:blip r:embed="rId1"/>
          <a:stretch/>
        </p:blipFill>
        <p:spPr>
          <a:xfrm>
            <a:off x="751320" y="2112840"/>
            <a:ext cx="7640640" cy="41637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 rot="20133600">
            <a:off x="283320" y="2344320"/>
            <a:ext cx="296856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Discovery of IC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9"/>
          <p:cNvSpPr/>
          <p:nvPr/>
        </p:nvSpPr>
        <p:spPr>
          <a:xfrm rot="20133600">
            <a:off x="134280" y="3750480"/>
            <a:ext cx="313596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eation of ICT referen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0"/>
          <p:cNvSpPr/>
          <p:nvPr/>
        </p:nvSpPr>
        <p:spPr>
          <a:xfrm rot="20133600">
            <a:off x="136080" y="5508720"/>
            <a:ext cx="3070440" cy="3639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esting with pilot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26A6-265B-4746-88D8-65A307930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ore design mode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12" descr=""/>
          <p:cNvPicPr/>
          <p:nvPr/>
        </p:nvPicPr>
        <p:blipFill>
          <a:blip r:embed="rId1"/>
          <a:stretch/>
        </p:blipFill>
        <p:spPr>
          <a:xfrm>
            <a:off x="457200" y="1989720"/>
            <a:ext cx="4038120" cy="3111840"/>
          </a:xfrm>
          <a:prstGeom prst="rect">
            <a:avLst/>
          </a:prstGeom>
          <a:ln w="0">
            <a:noFill/>
          </a:ln>
        </p:spPr>
      </p:pic>
      <p:pic>
        <p:nvPicPr>
          <p:cNvPr id="317" name="Content Placeholder 6" descr=""/>
          <p:cNvPicPr/>
          <p:nvPr/>
        </p:nvPicPr>
        <p:blipFill>
          <a:blip r:embed="rId2"/>
          <a:srcRect l="0" t="0" r="27123" b="0"/>
          <a:stretch/>
        </p:blipFill>
        <p:spPr>
          <a:xfrm>
            <a:off x="4648320" y="1989720"/>
            <a:ext cx="4190760" cy="31474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7"/>
          <p:cNvSpPr/>
          <p:nvPr/>
        </p:nvSpPr>
        <p:spPr>
          <a:xfrm>
            <a:off x="457200" y="5314680"/>
            <a:ext cx="403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ametrized SGAM model to investi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.g. link activity and possibility to use wireless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572000" y="53146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ference model to discover ICT requirements with energy exper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43B9-3AD8-4C0A-8E54-FDB8C5F52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24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2"/>
                </a:solidFill>
                <a:latin typeface="Calibri Light"/>
              </a:rPr>
              <a:t>Conclus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83280"/>
            <a:ext cx="8229240" cy="41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The work revealed that defining ICT requirements for future ancillary services is challenging: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Unclear requirements and value range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CT evolution cycle is different compared to energy system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Choosing suitable communication options depends on  various factors e.g. market  and national characteristics, existing communication infrastructure, regulation, maturity of technologies, and investment and operation costs.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marL="343080" indent="-343080">
              <a:lnSpc>
                <a:spcPct val="130000"/>
              </a:lnSpc>
              <a:spcBef>
                <a:spcPts val="360"/>
              </a:spcBef>
              <a:buClr>
                <a:srgbClr val="1f497d"/>
              </a:buClr>
              <a:buFont typeface="Wingdings" charset="2"/>
              <a:buChar char=""/>
            </a:pPr>
            <a:r>
              <a:rPr b="0" lang="en-US" sz="1800" spc="-1" strike="noStrike">
                <a:solidFill>
                  <a:srgbClr val="1f497d"/>
                </a:solidFill>
                <a:latin typeface="Corbel"/>
              </a:rPr>
              <a:t>We need new tools to support the design and analysis</a:t>
            </a:r>
            <a:endParaRPr b="0" lang="en-US" sz="1800" spc="-1" strike="noStrike">
              <a:solidFill>
                <a:srgbClr val="1f497d"/>
              </a:solidFill>
              <a:latin typeface="Corbel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Reference model to help identifying interactions between different system component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Pre-compiled ICT requirement table to select requirements for communication link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320"/>
              </a:spcBef>
              <a:buClr>
                <a:srgbClr val="558ed5"/>
              </a:buClr>
              <a:buFont typeface="Courier New"/>
              <a:buChar char="o"/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Parametrized SGAM model to maintain system complexity in different SGAM layers and to generate visual presentations of different system alternatives</a:t>
            </a:r>
            <a:endParaRPr b="0" lang="en-US" sz="1600" spc="-1" strike="noStrike">
              <a:solidFill>
                <a:srgbClr val="558ed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74FB-1112-4181-AB3F-5B9D1431D7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 Titl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martNet 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martNet Main Content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mart Net End Slides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mart Net End Slides">
  <a:themeElements>
    <a:clrScheme name="Custom 2">
      <a:dk1>
        <a:srgbClr val="000000"/>
      </a:dk1>
      <a:lt1>
        <a:srgbClr val="ffffff"/>
      </a:lt1>
      <a:dk2>
        <a:srgbClr val="3d72c4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martNet-template.potx</Template>
  <TotalTime>4184</TotalTime>
  <Application>LibreOffice/7.4.7.2$Linux_X86_64 LibreOffice_project/40$Build-2</Application>
  <AppVersion>15.0000</AppVersion>
  <Words>558</Words>
  <Paragraphs>104</Paragraphs>
  <Company>Florence School of Regul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30:10Z</dcterms:created>
  <dc:creator>Janto McMullin</dc:creator>
  <dc:description/>
  <dc:language>en-US</dc:language>
  <cp:lastModifiedBy>TTEHOS</cp:lastModifiedBy>
  <cp:lastPrinted>2017-06-17T09:49:13Z</cp:lastPrinted>
  <dcterms:modified xsi:type="dcterms:W3CDTF">2017-06-19T11:19:46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  <property fmtid="{D5CDD505-2E9C-101B-9397-08002B2CF9AE}" pid="5" name="_AdHocReviewCycleID">
    <vt:r8>779617265</vt:r8>
  </property>
  <property fmtid="{D5CDD505-2E9C-101B-9397-08002B2CF9AE}" pid="6" name="_AuthorEmail">
    <vt:lpwstr>Lotta.Tuomimaki@vtt.fi</vt:lpwstr>
  </property>
  <property fmtid="{D5CDD505-2E9C-101B-9397-08002B2CF9AE}" pid="7" name="_AuthorEmailDisplayName">
    <vt:lpwstr>Tuomimäki Lotta</vt:lpwstr>
  </property>
  <property fmtid="{D5CDD505-2E9C-101B-9397-08002B2CF9AE}" pid="8" name="_EmailSubject">
    <vt:lpwstr>Toinen versio PowerTech esityksestä</vt:lpwstr>
  </property>
  <property fmtid="{D5CDD505-2E9C-101B-9397-08002B2CF9AE}" pid="9" name="_NewReviewCycle">
    <vt:lpwstr/>
  </property>
  <property fmtid="{D5CDD505-2E9C-101B-9397-08002B2CF9AE}" pid="10" name="_PreviousAdHocReviewCycleID">
    <vt:r8>-243684774</vt:r8>
  </property>
</Properties>
</file>